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D1AF-8132-4F02-BA08-8F75603EDF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A380-60EE-443B-A9F8-58D76A002C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1B5D-7F6D-452D-A7B5-5C59771C3B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0F20-5960-43E9-ABC6-908D889082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63BD-0622-4549-8F2D-84814E5E94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086E-916F-4523-8932-D170406E42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0DF2-1C6C-4D89-9C79-0A6BD22E2F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B51B-3D60-4A07-BD80-F2293C9337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BBF6-FA53-4CFA-A8FA-1E1DA99D61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7E98-87C8-4B2D-8A11-15C8C843A9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034B-19D2-4C27-8113-B4C626FE85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AB2D-ADC8-42CF-BD57-0A4F646633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1C51-F6F4-4245-817C-C10E8BF61C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B4B6-8B37-4100-939C-8628ADFECE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C659-C678-4F6F-A52B-D7F6D90DD6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D7C3-C9CF-4FC2-962F-B59AD0869E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B501-327F-4285-8090-BD366F2A39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9DB5-C0C8-4A54-B743-1B0AEC7D8B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6D9F-10E2-47CD-9B5F-A9426FC60E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6155-F8E4-4FD1-860B-8FFA390D10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06B4-04C2-4892-BEA5-736709049E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3F86-AA02-4567-85B4-B176CBD891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0C6B-DD10-4F86-872D-C499A10D9A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B720-1500-453C-A178-99A8FC4868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7DD9-7835-4BB5-B5BE-EF003DC0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8892-479E-467B-B7BC-7BE38414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778-6423-4A86-B42F-1FDCC397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8DA8-54E0-4A60-A259-F263A936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9744-8E76-48EE-AE91-FC5E9777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A9D6-994C-4EF6-8426-607C6D71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D646-2164-4923-BAF9-72B2FB97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CC5E-5FAE-4A61-9150-8699437C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8C65-73EB-4615-AA3C-0CA9C10F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B50A-CA1D-4C76-ACA3-6C241019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2989-952D-4790-B3D7-B490BECE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FFA7-9E28-4F24-A2D2-F1D1F46C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DEFF-E0C5-495F-8D08-F67023A22F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71640" y="1197000"/>
            <a:ext cx="7488000" cy="638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irculatory System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804000" y="616572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S. MORRIS 200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9" descr="ciculatory"/>
          <p:cNvPicPr/>
          <p:nvPr/>
        </p:nvPicPr>
        <p:blipFill>
          <a:blip r:embed="rId1"/>
          <a:stretch/>
        </p:blipFill>
        <p:spPr>
          <a:xfrm>
            <a:off x="3492360" y="1700280"/>
            <a:ext cx="22194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0" y="549360"/>
            <a:ext cx="9144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blood from the heart gets arou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body through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611280" y="220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re are 3 types of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2195640" y="3068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    ART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2268360" y="39337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VE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2268360" y="4869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5"/>
          <p:cNvSpPr/>
          <p:nvPr/>
        </p:nvSpPr>
        <p:spPr>
          <a:xfrm>
            <a:off x="5364000" y="1484280"/>
            <a:ext cx="3065760" cy="250524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ARTE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Oval 8"/>
          <p:cNvSpPr/>
          <p:nvPr/>
        </p:nvSpPr>
        <p:spPr>
          <a:xfrm>
            <a:off x="4643280" y="2349360"/>
            <a:ext cx="1828800" cy="175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4788000" y="2492280"/>
            <a:ext cx="1523880" cy="1447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Oval 6"/>
          <p:cNvSpPr/>
          <p:nvPr/>
        </p:nvSpPr>
        <p:spPr>
          <a:xfrm>
            <a:off x="5076720" y="2781360"/>
            <a:ext cx="91440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395280" y="4365720"/>
            <a:ext cx="295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ck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Line 11"/>
          <p:cNvSpPr/>
          <p:nvPr/>
        </p:nvSpPr>
        <p:spPr>
          <a:xfrm flipV="1">
            <a:off x="2700360" y="3644640"/>
            <a:ext cx="2374920" cy="1368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3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Arteries carry blood away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611280" y="2276640"/>
            <a:ext cx="352908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lastic fibres allow the artery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stretc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under pres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17"/>
          <p:cNvSpPr/>
          <p:nvPr/>
        </p:nvSpPr>
        <p:spPr>
          <a:xfrm>
            <a:off x="5219640" y="4581360"/>
            <a:ext cx="324000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thick muscle can contract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pus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the blood alo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VE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Veins carry blood towards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Freeform 6"/>
          <p:cNvSpPr/>
          <p:nvPr/>
        </p:nvSpPr>
        <p:spPr>
          <a:xfrm>
            <a:off x="5508720" y="1413000"/>
            <a:ext cx="3065400" cy="250488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8"/>
          <p:cNvSpPr/>
          <p:nvPr/>
        </p:nvSpPr>
        <p:spPr>
          <a:xfrm>
            <a:off x="4932360" y="2276640"/>
            <a:ext cx="1828800" cy="1752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Oval 11"/>
          <p:cNvSpPr/>
          <p:nvPr/>
        </p:nvSpPr>
        <p:spPr>
          <a:xfrm>
            <a:off x="5003640" y="2349360"/>
            <a:ext cx="1676520" cy="1600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Oval 9"/>
          <p:cNvSpPr/>
          <p:nvPr/>
        </p:nvSpPr>
        <p:spPr>
          <a:xfrm>
            <a:off x="5076720" y="2421000"/>
            <a:ext cx="1524240" cy="1447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468360" y="4076640"/>
            <a:ext cx="27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n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13"/>
          <p:cNvSpPr/>
          <p:nvPr/>
        </p:nvSpPr>
        <p:spPr>
          <a:xfrm flipV="1">
            <a:off x="3059280" y="3141720"/>
            <a:ext cx="2447640" cy="1295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468360" y="2060640"/>
            <a:ext cx="345600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s have valves which act to stop the blood from going in the wrong direc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15"/>
          <p:cNvSpPr/>
          <p:nvPr/>
        </p:nvSpPr>
        <p:spPr>
          <a:xfrm>
            <a:off x="3635280" y="4508640"/>
            <a:ext cx="5048280" cy="19227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muscles surround the veins so that when they contract to move the body, they also squeeze the veins and push the blood along the vess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36"/>
          <p:cNvSpPr/>
          <p:nvPr/>
        </p:nvSpPr>
        <p:spPr>
          <a:xfrm>
            <a:off x="5796000" y="1557360"/>
            <a:ext cx="2201760" cy="185580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Oval 16"/>
          <p:cNvSpPr/>
          <p:nvPr/>
        </p:nvSpPr>
        <p:spPr>
          <a:xfrm>
            <a:off x="5148360" y="2276640"/>
            <a:ext cx="1438200" cy="1293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908000" y="907920"/>
            <a:ext cx="633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apillaries link Arteries with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Freeform 9"/>
          <p:cNvSpPr/>
          <p:nvPr/>
        </p:nvSpPr>
        <p:spPr>
          <a:xfrm>
            <a:off x="6227640" y="206064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Freeform 10"/>
          <p:cNvSpPr/>
          <p:nvPr/>
        </p:nvSpPr>
        <p:spPr>
          <a:xfrm>
            <a:off x="7020000" y="1628640"/>
            <a:ext cx="88560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7451640" y="1700280"/>
            <a:ext cx="103320" cy="576360"/>
          </a:xfrm>
          <a:custGeom>
            <a:avLst/>
            <a:gdLst/>
            <a:ahLst/>
            <a:rect l="l" t="t" r="r" b="b"/>
            <a:pathLst>
              <a:path w="65" h="286">
                <a:moveTo>
                  <a:pt x="0" y="286"/>
                </a:moveTo>
                <a:cubicBezTo>
                  <a:pt x="4" y="275"/>
                  <a:pt x="6" y="264"/>
                  <a:pt x="11" y="254"/>
                </a:cubicBezTo>
                <a:cubicBezTo>
                  <a:pt x="24" y="231"/>
                  <a:pt x="54" y="188"/>
                  <a:pt x="54" y="188"/>
                </a:cubicBezTo>
                <a:cubicBezTo>
                  <a:pt x="41" y="124"/>
                  <a:pt x="28" y="102"/>
                  <a:pt x="43" y="35"/>
                </a:cubicBezTo>
                <a:cubicBezTo>
                  <a:pt x="51" y="0"/>
                  <a:pt x="44" y="3"/>
                  <a:pt x="65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Freeform 12"/>
          <p:cNvSpPr/>
          <p:nvPr/>
        </p:nvSpPr>
        <p:spPr>
          <a:xfrm>
            <a:off x="7740720" y="2133720"/>
            <a:ext cx="144360" cy="215640"/>
          </a:xfrm>
          <a:custGeom>
            <a:avLst/>
            <a:gdLst/>
            <a:ahLst/>
            <a:rect l="l" t="t" r="r" b="b"/>
            <a:pathLst>
              <a:path w="87" h="98">
                <a:moveTo>
                  <a:pt x="0" y="21"/>
                </a:moveTo>
                <a:cubicBezTo>
                  <a:pt x="14" y="98"/>
                  <a:pt x="13" y="95"/>
                  <a:pt x="87" y="76"/>
                </a:cubicBezTo>
                <a:cubicBezTo>
                  <a:pt x="83" y="65"/>
                  <a:pt x="83" y="52"/>
                  <a:pt x="76" y="43"/>
                </a:cubicBezTo>
                <a:cubicBezTo>
                  <a:pt x="61" y="24"/>
                  <a:pt x="19" y="0"/>
                  <a:pt x="0" y="2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Freeform 13"/>
          <p:cNvSpPr/>
          <p:nvPr/>
        </p:nvSpPr>
        <p:spPr>
          <a:xfrm>
            <a:off x="7164360" y="1844640"/>
            <a:ext cx="138240" cy="147600"/>
          </a:xfrm>
          <a:custGeom>
            <a:avLst/>
            <a:gdLst/>
            <a:ahLst/>
            <a:rect l="l" t="t" r="r" b="b"/>
            <a:pathLst>
              <a:path w="87" h="93">
                <a:moveTo>
                  <a:pt x="0" y="0"/>
                </a:moveTo>
                <a:cubicBezTo>
                  <a:pt x="9" y="46"/>
                  <a:pt x="0" y="93"/>
                  <a:pt x="77" y="44"/>
                </a:cubicBezTo>
                <a:cubicBezTo>
                  <a:pt x="87" y="38"/>
                  <a:pt x="54" y="38"/>
                  <a:pt x="44" y="33"/>
                </a:cubicBezTo>
                <a:cubicBezTo>
                  <a:pt x="19" y="21"/>
                  <a:pt x="15" y="15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Freeform 14"/>
          <p:cNvSpPr/>
          <p:nvPr/>
        </p:nvSpPr>
        <p:spPr>
          <a:xfrm>
            <a:off x="7740720" y="170028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Oval 15"/>
          <p:cNvSpPr/>
          <p:nvPr/>
        </p:nvSpPr>
        <p:spPr>
          <a:xfrm>
            <a:off x="5219640" y="2349360"/>
            <a:ext cx="1297080" cy="1150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395280" y="3933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wall of a capill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is only one cell thi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Line 18"/>
          <p:cNvSpPr/>
          <p:nvPr/>
        </p:nvSpPr>
        <p:spPr>
          <a:xfrm flipV="1">
            <a:off x="3851280" y="3213000"/>
            <a:ext cx="1368360" cy="1152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Freeform 19"/>
          <p:cNvSpPr/>
          <p:nvPr/>
        </p:nvSpPr>
        <p:spPr>
          <a:xfrm>
            <a:off x="6516720" y="2133720"/>
            <a:ext cx="88596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Freeform 20"/>
          <p:cNvSpPr/>
          <p:nvPr/>
        </p:nvSpPr>
        <p:spPr>
          <a:xfrm rot="12475200">
            <a:off x="6876720" y="1773000"/>
            <a:ext cx="360360" cy="4334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Freeform 21"/>
          <p:cNvSpPr/>
          <p:nvPr/>
        </p:nvSpPr>
        <p:spPr>
          <a:xfrm>
            <a:off x="6588000" y="2133720"/>
            <a:ext cx="271440" cy="71892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Freeform 22"/>
          <p:cNvSpPr/>
          <p:nvPr/>
        </p:nvSpPr>
        <p:spPr>
          <a:xfrm>
            <a:off x="6588000" y="191628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Freeform 23"/>
          <p:cNvSpPr/>
          <p:nvPr/>
        </p:nvSpPr>
        <p:spPr>
          <a:xfrm>
            <a:off x="6300720" y="1916280"/>
            <a:ext cx="216000" cy="28872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Freeform 24"/>
          <p:cNvSpPr/>
          <p:nvPr/>
        </p:nvSpPr>
        <p:spPr>
          <a:xfrm>
            <a:off x="6372360" y="2205000"/>
            <a:ext cx="144360" cy="36036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Freeform 25"/>
          <p:cNvSpPr/>
          <p:nvPr/>
        </p:nvSpPr>
        <p:spPr>
          <a:xfrm>
            <a:off x="6659640" y="242100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Freeform 26"/>
          <p:cNvSpPr/>
          <p:nvPr/>
        </p:nvSpPr>
        <p:spPr>
          <a:xfrm>
            <a:off x="6948360" y="242100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34"/>
          <p:cNvSpPr/>
          <p:nvPr/>
        </p:nvSpPr>
        <p:spPr>
          <a:xfrm>
            <a:off x="755640" y="1989000"/>
            <a:ext cx="3743280" cy="11912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y exchange materials between the blood and other body ce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35"/>
          <p:cNvSpPr/>
          <p:nvPr/>
        </p:nvSpPr>
        <p:spPr>
          <a:xfrm>
            <a:off x="4572000" y="4365720"/>
            <a:ext cx="417528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xchange of materials between the blood and the body can only occur through capillar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Freeform 8"/>
          <p:cNvSpPr/>
          <p:nvPr/>
        </p:nvSpPr>
        <p:spPr>
          <a:xfrm rot="21212400">
            <a:off x="6948000" y="2420640"/>
            <a:ext cx="343080" cy="50328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Freeform 7"/>
          <p:cNvSpPr/>
          <p:nvPr/>
        </p:nvSpPr>
        <p:spPr>
          <a:xfrm rot="19964400">
            <a:off x="7167600" y="2079360"/>
            <a:ext cx="576360" cy="50328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9" descr="capillary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4330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5"/>
          <p:cNvSpPr/>
          <p:nvPr/>
        </p:nvSpPr>
        <p:spPr>
          <a:xfrm>
            <a:off x="900000" y="155736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Line 6"/>
          <p:cNvSpPr/>
          <p:nvPr/>
        </p:nvSpPr>
        <p:spPr>
          <a:xfrm>
            <a:off x="1619280" y="1989000"/>
            <a:ext cx="73080" cy="1440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6659640" y="15573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8"/>
          <p:cNvSpPr/>
          <p:nvPr/>
        </p:nvSpPr>
        <p:spPr>
          <a:xfrm flipH="1">
            <a:off x="7380000" y="1916280"/>
            <a:ext cx="73080" cy="1584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Line 9"/>
          <p:cNvSpPr/>
          <p:nvPr/>
        </p:nvSpPr>
        <p:spPr>
          <a:xfrm flipH="1" flipV="1">
            <a:off x="5867280" y="3860280"/>
            <a:ext cx="9367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601200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1042920" y="508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Line 14"/>
          <p:cNvSpPr/>
          <p:nvPr/>
        </p:nvSpPr>
        <p:spPr>
          <a:xfrm flipV="1">
            <a:off x="1908000" y="3860280"/>
            <a:ext cx="1079640" cy="1366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15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16"/>
          <p:cNvSpPr/>
          <p:nvPr/>
        </p:nvSpPr>
        <p:spPr>
          <a:xfrm>
            <a:off x="755640" y="836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A collection of capillaries is known as a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capillary bed</a:t>
            </a:r>
            <a:r>
              <a:rPr b="0" lang="en-GB" sz="24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Line 17"/>
          <p:cNvSpPr/>
          <p:nvPr/>
        </p:nvSpPr>
        <p:spPr>
          <a:xfrm flipH="1" flipV="1">
            <a:off x="4284720" y="4005360"/>
            <a:ext cx="2232000" cy="792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1763640" y="5805360"/>
            <a:ext cx="59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4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what</a:t>
            </a:r>
            <a:r>
              <a:rPr b="1" lang="ja-JP" sz="3600" spc="-1" strike="noStrike">
                <a:solidFill>
                  <a:srgbClr val="006600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s 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684360" y="162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6084720" y="170028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7020000" y="472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3132000" y="551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395280" y="4797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3492360" y="1197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digested f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7128000" y="32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aste (ur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4788000" y="5445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468360" y="321300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WordArt 16"/>
          <p:cNvSpPr txBox="1"/>
          <p:nvPr/>
        </p:nvSpPr>
        <p:spPr>
          <a:xfrm>
            <a:off x="2556000" y="2708280"/>
            <a:ext cx="4032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BLOOD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324" name="Line 17"/>
          <p:cNvSpPr/>
          <p:nvPr/>
        </p:nvSpPr>
        <p:spPr>
          <a:xfrm flipH="1" flipV="1">
            <a:off x="2050560" y="2133360"/>
            <a:ext cx="505080" cy="43164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Line 18"/>
          <p:cNvSpPr/>
          <p:nvPr/>
        </p:nvSpPr>
        <p:spPr>
          <a:xfrm flipV="1">
            <a:off x="4427640" y="1773000"/>
            <a:ext cx="0" cy="7189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Line 19"/>
          <p:cNvSpPr/>
          <p:nvPr/>
        </p:nvSpPr>
        <p:spPr>
          <a:xfrm flipV="1">
            <a:off x="6227640" y="2205000"/>
            <a:ext cx="360360" cy="432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Line 20"/>
          <p:cNvSpPr/>
          <p:nvPr/>
        </p:nvSpPr>
        <p:spPr>
          <a:xfrm>
            <a:off x="6804000" y="3500280"/>
            <a:ext cx="36036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Line 21"/>
          <p:cNvSpPr/>
          <p:nvPr/>
        </p:nvSpPr>
        <p:spPr>
          <a:xfrm>
            <a:off x="6443640" y="4221000"/>
            <a:ext cx="649440" cy="576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Line 22"/>
          <p:cNvSpPr/>
          <p:nvPr/>
        </p:nvSpPr>
        <p:spPr>
          <a:xfrm>
            <a:off x="558000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Line 23"/>
          <p:cNvSpPr/>
          <p:nvPr/>
        </p:nvSpPr>
        <p:spPr>
          <a:xfrm>
            <a:off x="370836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Line 24"/>
          <p:cNvSpPr/>
          <p:nvPr/>
        </p:nvSpPr>
        <p:spPr>
          <a:xfrm flipH="1">
            <a:off x="1834920" y="4292640"/>
            <a:ext cx="649080" cy="504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Line 25"/>
          <p:cNvSpPr/>
          <p:nvPr/>
        </p:nvSpPr>
        <p:spPr>
          <a:xfrm flipH="1">
            <a:off x="1692000" y="3429000"/>
            <a:ext cx="43164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1" descr="biblood"/>
          <p:cNvPicPr/>
          <p:nvPr/>
        </p:nvPicPr>
        <p:blipFill>
          <a:blip r:embed="rId1"/>
          <a:stretch/>
        </p:blipFill>
        <p:spPr>
          <a:xfrm>
            <a:off x="611280" y="1557360"/>
            <a:ext cx="7885080" cy="378612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7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Bl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6156360" y="4724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plas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468360" y="1916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ed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6659640" y="1844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hite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468360" y="4797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0" descr="RBC"/>
          <p:cNvPicPr/>
          <p:nvPr/>
        </p:nvPicPr>
        <p:blipFill>
          <a:blip r:embed="rId1"/>
          <a:stretch/>
        </p:blipFill>
        <p:spPr>
          <a:xfrm>
            <a:off x="324000" y="1700280"/>
            <a:ext cx="5841720" cy="380988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5292720" y="1162080"/>
            <a:ext cx="3527280" cy="1374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onta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haemoglobi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, a molecule specially designed to hold oxygen and carry it to cells that need it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3059280" y="4545000"/>
            <a:ext cx="3614400" cy="16794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hange shape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an amazing extent, without breaking, as it squeezes single file through the capillaries.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395280" y="1521360"/>
            <a:ext cx="3527280" cy="10087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biconcave disc that is round and flat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withou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5" name="Picture 6" descr="PBLymphozyt"/>
          <p:cNvPicPr/>
          <p:nvPr/>
        </p:nvPicPr>
        <p:blipFill>
          <a:blip r:embed="rId1"/>
          <a:stretch/>
        </p:blipFill>
        <p:spPr>
          <a:xfrm>
            <a:off x="611280" y="1197000"/>
            <a:ext cx="3151080" cy="360036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7"/>
          <p:cNvSpPr/>
          <p:nvPr/>
        </p:nvSpPr>
        <p:spPr>
          <a:xfrm>
            <a:off x="4067280" y="1234080"/>
            <a:ext cx="45352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re are many different types and all contain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ig nucleu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4067280" y="2305440"/>
            <a:ext cx="4537080" cy="10695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 two main ones are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539640" y="5193360"/>
            <a:ext cx="8064720" cy="1161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som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fight disease by making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bodies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o destroy invaders by dissolving the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other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a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toxin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break down pois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4067280" y="3753000"/>
            <a:ext cx="4535280" cy="76464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ja-JP" sz="2000" spc="-1" strike="noStrike">
                <a:solidFill>
                  <a:srgbClr val="0066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eat</a:t>
            </a:r>
            <a:r>
              <a:rPr b="0" lang="ja-JP" sz="2000" spc="-1" strike="noStrike">
                <a:solidFill>
                  <a:srgbClr val="006600"/>
                </a:solidFill>
                <a:latin typeface="Arial"/>
              </a:rPr>
              <a:t>’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and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iges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icro-organism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635280" y="1089360"/>
            <a:ext cx="33130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re bits of cell broken off larger cel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3635280" y="3681720"/>
            <a:ext cx="2664000" cy="1923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 produce tiny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inoge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form a net. This net traps other blood cells to form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loo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clo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3" name="Picture 14" descr="blood-clot"/>
          <p:cNvPicPr/>
          <p:nvPr/>
        </p:nvPicPr>
        <p:blipFill>
          <a:blip r:embed="rId1"/>
          <a:stretch/>
        </p:blipFill>
        <p:spPr>
          <a:xfrm>
            <a:off x="395280" y="3500280"/>
            <a:ext cx="3097080" cy="26053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5" descr="platelet"/>
          <p:cNvPicPr/>
          <p:nvPr/>
        </p:nvPicPr>
        <p:blipFill>
          <a:blip r:embed="rId2"/>
          <a:stretch/>
        </p:blipFill>
        <p:spPr>
          <a:xfrm>
            <a:off x="395280" y="1052640"/>
            <a:ext cx="3095640" cy="22460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6" descr="scab"/>
          <p:cNvPicPr/>
          <p:nvPr/>
        </p:nvPicPr>
        <p:blipFill>
          <a:blip r:embed="rId3"/>
          <a:stretch/>
        </p:blipFill>
        <p:spPr>
          <a:xfrm>
            <a:off x="6443640" y="3357720"/>
            <a:ext cx="2340000" cy="23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324000" y="1197000"/>
            <a:ext cx="83534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irculatory system carries blood and dissolved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ubstances to and from different places in 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24000" y="2421000"/>
            <a:ext cx="8640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has the job of pumping these things a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324000" y="3573360"/>
            <a:ext cx="835344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Heart pumps blood and substances around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body in tubes called blood vess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24000" y="494172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and blood vessels together make up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irculatory System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2124000" y="404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What is the circulatory system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6" descr="plasma"/>
          <p:cNvPicPr/>
          <p:nvPr/>
        </p:nvPicPr>
        <p:blipFill>
          <a:blip r:embed="rId1"/>
          <a:stretch/>
        </p:blipFill>
        <p:spPr>
          <a:xfrm>
            <a:off x="2627280" y="907920"/>
            <a:ext cx="3048120" cy="52563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395280" y="2276640"/>
            <a:ext cx="1800360" cy="2533320"/>
          </a:xfrm>
          <a:prstGeom prst="rect">
            <a:avLst/>
          </a:prstGeom>
          <a:noFill/>
          <a:ln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straw-coloure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liquid  that carries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which help blood cl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5940360" y="1773360"/>
            <a:ext cx="284328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luco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itam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aste materia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i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ure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Line 9"/>
          <p:cNvSpPr/>
          <p:nvPr/>
        </p:nvSpPr>
        <p:spPr>
          <a:xfrm>
            <a:off x="2340000" y="3500280"/>
            <a:ext cx="10810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5867280" y="907920"/>
            <a:ext cx="28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It also contains useful things like;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4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250920" y="98100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py and complete the follow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395280" y="1557360"/>
            <a:ext cx="8424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3780000" y="5734080"/>
            <a:ext cx="129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1908000" y="3068640"/>
            <a:ext cx="122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468360" y="3716280"/>
            <a:ext cx="1512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Text Box 12"/>
          <p:cNvSpPr/>
          <p:nvPr/>
        </p:nvSpPr>
        <p:spPr>
          <a:xfrm>
            <a:off x="4859280" y="4437000"/>
            <a:ext cx="108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 Box 13"/>
          <p:cNvSpPr/>
          <p:nvPr/>
        </p:nvSpPr>
        <p:spPr>
          <a:xfrm>
            <a:off x="4140360" y="5084640"/>
            <a:ext cx="1079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2987640" y="2421000"/>
            <a:ext cx="1440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4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50920" y="98100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py and complete the follow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95280" y="1557360"/>
            <a:ext cx="8424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916360" y="177336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3780000" y="5734080"/>
            <a:ext cx="12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1908000" y="3068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owa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468360" y="37162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apilla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4859280" y="443700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s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140360" y="5084640"/>
            <a:ext cx="107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15"/>
          <p:cNvSpPr/>
          <p:nvPr/>
        </p:nvSpPr>
        <p:spPr>
          <a:xfrm>
            <a:off x="2987640" y="2421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uscul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Picture1"/>
          <p:cNvPicPr/>
          <p:nvPr/>
        </p:nvPicPr>
        <p:blipFill>
          <a:blip r:embed="rId1"/>
          <a:stretch/>
        </p:blipFill>
        <p:spPr>
          <a:xfrm>
            <a:off x="3564000" y="2492280"/>
            <a:ext cx="1655640" cy="1228680"/>
          </a:xfrm>
          <a:prstGeom prst="rect">
            <a:avLst/>
          </a:prstGeom>
          <a:ln w="0">
            <a:noFill/>
          </a:ln>
        </p:spPr>
      </p:pic>
      <p:sp>
        <p:nvSpPr>
          <p:cNvPr id="57" name="Line 7"/>
          <p:cNvSpPr/>
          <p:nvPr/>
        </p:nvSpPr>
        <p:spPr>
          <a:xfrm flipV="1">
            <a:off x="4500720" y="2349000"/>
            <a:ext cx="215640" cy="28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Line 8"/>
          <p:cNvSpPr/>
          <p:nvPr/>
        </p:nvSpPr>
        <p:spPr>
          <a:xfrm>
            <a:off x="4716360" y="2349360"/>
            <a:ext cx="223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Line 9"/>
          <p:cNvSpPr/>
          <p:nvPr/>
        </p:nvSpPr>
        <p:spPr>
          <a:xfrm>
            <a:off x="6948360" y="1628640"/>
            <a:ext cx="0" cy="432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780000" y="981000"/>
            <a:ext cx="936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ung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3492360" y="1484280"/>
            <a:ext cx="151308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head &amp; ar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5003640" y="1628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924360" y="3860640"/>
            <a:ext cx="93672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i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3419640" y="4508640"/>
            <a:ext cx="2016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digestive 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851280" y="5157720"/>
            <a:ext cx="1152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kidney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3924360" y="5805360"/>
            <a:ext cx="1008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eg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20"/>
          <p:cNvSpPr/>
          <p:nvPr/>
        </p:nvSpPr>
        <p:spPr>
          <a:xfrm>
            <a:off x="4859280" y="4005360"/>
            <a:ext cx="2089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21"/>
          <p:cNvSpPr/>
          <p:nvPr/>
        </p:nvSpPr>
        <p:spPr>
          <a:xfrm>
            <a:off x="5435640" y="4653000"/>
            <a:ext cx="1512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22"/>
          <p:cNvSpPr/>
          <p:nvPr/>
        </p:nvSpPr>
        <p:spPr>
          <a:xfrm>
            <a:off x="5003640" y="5300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23"/>
          <p:cNvSpPr/>
          <p:nvPr/>
        </p:nvSpPr>
        <p:spPr>
          <a:xfrm>
            <a:off x="4932360" y="5950080"/>
            <a:ext cx="2016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24"/>
          <p:cNvSpPr/>
          <p:nvPr/>
        </p:nvSpPr>
        <p:spPr>
          <a:xfrm>
            <a:off x="1979640" y="162864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25"/>
          <p:cNvSpPr/>
          <p:nvPr/>
        </p:nvSpPr>
        <p:spPr>
          <a:xfrm>
            <a:off x="1979640" y="1628640"/>
            <a:ext cx="0" cy="4321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26"/>
          <p:cNvSpPr/>
          <p:nvPr/>
        </p:nvSpPr>
        <p:spPr>
          <a:xfrm>
            <a:off x="1979640" y="595008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27"/>
          <p:cNvSpPr/>
          <p:nvPr/>
        </p:nvSpPr>
        <p:spPr>
          <a:xfrm>
            <a:off x="1979640" y="5300640"/>
            <a:ext cx="1873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28"/>
          <p:cNvSpPr/>
          <p:nvPr/>
        </p:nvSpPr>
        <p:spPr>
          <a:xfrm>
            <a:off x="1979640" y="4653000"/>
            <a:ext cx="1440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29"/>
          <p:cNvSpPr/>
          <p:nvPr/>
        </p:nvSpPr>
        <p:spPr>
          <a:xfrm>
            <a:off x="1979640" y="400536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30"/>
          <p:cNvSpPr/>
          <p:nvPr/>
        </p:nvSpPr>
        <p:spPr>
          <a:xfrm>
            <a:off x="1979640" y="234936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31"/>
          <p:cNvSpPr/>
          <p:nvPr/>
        </p:nvSpPr>
        <p:spPr>
          <a:xfrm flipH="1" flipV="1">
            <a:off x="3492360" y="2349360"/>
            <a:ext cx="648000" cy="503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36"/>
          <p:cNvSpPr/>
          <p:nvPr/>
        </p:nvSpPr>
        <p:spPr>
          <a:xfrm flipH="1">
            <a:off x="2916000" y="400536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37"/>
          <p:cNvSpPr/>
          <p:nvPr/>
        </p:nvSpPr>
        <p:spPr>
          <a:xfrm flipH="1">
            <a:off x="2916000" y="465300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38"/>
          <p:cNvSpPr/>
          <p:nvPr/>
        </p:nvSpPr>
        <p:spPr>
          <a:xfrm flipH="1">
            <a:off x="2916000" y="5300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39"/>
          <p:cNvSpPr/>
          <p:nvPr/>
        </p:nvSpPr>
        <p:spPr>
          <a:xfrm flipH="1">
            <a:off x="2916000" y="595008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40"/>
          <p:cNvSpPr/>
          <p:nvPr/>
        </p:nvSpPr>
        <p:spPr>
          <a:xfrm>
            <a:off x="2916360" y="2349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Line 42"/>
          <p:cNvSpPr/>
          <p:nvPr/>
        </p:nvSpPr>
        <p:spPr>
          <a:xfrm flipH="1">
            <a:off x="2842920" y="1628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Line 43"/>
          <p:cNvSpPr/>
          <p:nvPr/>
        </p:nvSpPr>
        <p:spPr>
          <a:xfrm>
            <a:off x="2843280" y="1125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Line 44"/>
          <p:cNvSpPr/>
          <p:nvPr/>
        </p:nvSpPr>
        <p:spPr>
          <a:xfrm flipH="1">
            <a:off x="2916000" y="1989000"/>
            <a:ext cx="142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45"/>
          <p:cNvSpPr/>
          <p:nvPr/>
        </p:nvSpPr>
        <p:spPr>
          <a:xfrm flipH="1">
            <a:off x="5651280" y="162864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47"/>
          <p:cNvSpPr/>
          <p:nvPr/>
        </p:nvSpPr>
        <p:spPr>
          <a:xfrm>
            <a:off x="5796000" y="2349360"/>
            <a:ext cx="71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52"/>
          <p:cNvSpPr/>
          <p:nvPr/>
        </p:nvSpPr>
        <p:spPr>
          <a:xfrm flipH="1">
            <a:off x="5795640" y="400536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53"/>
          <p:cNvSpPr/>
          <p:nvPr/>
        </p:nvSpPr>
        <p:spPr>
          <a:xfrm flipH="1">
            <a:off x="5867280" y="465300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Line 54"/>
          <p:cNvSpPr/>
          <p:nvPr/>
        </p:nvSpPr>
        <p:spPr>
          <a:xfrm flipH="1">
            <a:off x="5867280" y="530064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Line 55"/>
          <p:cNvSpPr/>
          <p:nvPr/>
        </p:nvSpPr>
        <p:spPr>
          <a:xfrm flipH="1">
            <a:off x="5867280" y="595008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56"/>
          <p:cNvSpPr/>
          <p:nvPr/>
        </p:nvSpPr>
        <p:spPr>
          <a:xfrm>
            <a:off x="6084720" y="981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arte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57"/>
          <p:cNvSpPr/>
          <p:nvPr/>
        </p:nvSpPr>
        <p:spPr>
          <a:xfrm>
            <a:off x="4643280" y="2060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aor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58"/>
          <p:cNvSpPr/>
          <p:nvPr/>
        </p:nvSpPr>
        <p:spPr>
          <a:xfrm>
            <a:off x="971640" y="98100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61"/>
          <p:cNvSpPr/>
          <p:nvPr/>
        </p:nvSpPr>
        <p:spPr>
          <a:xfrm>
            <a:off x="2771640" y="242100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main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62"/>
          <p:cNvSpPr/>
          <p:nvPr/>
        </p:nvSpPr>
        <p:spPr>
          <a:xfrm>
            <a:off x="478800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Lef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63"/>
          <p:cNvSpPr/>
          <p:nvPr/>
        </p:nvSpPr>
        <p:spPr>
          <a:xfrm>
            <a:off x="3203640" y="306864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64"/>
          <p:cNvSpPr/>
          <p:nvPr/>
        </p:nvSpPr>
        <p:spPr>
          <a:xfrm>
            <a:off x="0" y="40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5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is system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66"/>
          <p:cNvSpPr/>
          <p:nvPr/>
        </p:nvSpPr>
        <p:spPr>
          <a:xfrm>
            <a:off x="0" y="6165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irculator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67"/>
          <p:cNvSpPr/>
          <p:nvPr/>
        </p:nvSpPr>
        <p:spPr>
          <a:xfrm flipH="1">
            <a:off x="5003640" y="112536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Line 68"/>
          <p:cNvSpPr/>
          <p:nvPr/>
        </p:nvSpPr>
        <p:spPr>
          <a:xfrm>
            <a:off x="2484360" y="1125360"/>
            <a:ext cx="1295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69"/>
          <p:cNvSpPr/>
          <p:nvPr/>
        </p:nvSpPr>
        <p:spPr>
          <a:xfrm flipV="1">
            <a:off x="4284720" y="1989000"/>
            <a:ext cx="0" cy="648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Line 70"/>
          <p:cNvSpPr/>
          <p:nvPr/>
        </p:nvSpPr>
        <p:spPr>
          <a:xfrm flipH="1">
            <a:off x="2484000" y="1989000"/>
            <a:ext cx="1800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71"/>
          <p:cNvSpPr/>
          <p:nvPr/>
        </p:nvSpPr>
        <p:spPr>
          <a:xfrm>
            <a:off x="2484360" y="1125360"/>
            <a:ext cx="0" cy="863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72"/>
          <p:cNvSpPr/>
          <p:nvPr/>
        </p:nvSpPr>
        <p:spPr>
          <a:xfrm>
            <a:off x="4788000" y="2708280"/>
            <a:ext cx="1368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73"/>
          <p:cNvSpPr/>
          <p:nvPr/>
        </p:nvSpPr>
        <p:spPr>
          <a:xfrm flipV="1">
            <a:off x="6156360" y="1125000"/>
            <a:ext cx="0" cy="1582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74"/>
          <p:cNvSpPr/>
          <p:nvPr/>
        </p:nvSpPr>
        <p:spPr>
          <a:xfrm flipV="1">
            <a:off x="6156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75"/>
          <p:cNvSpPr/>
          <p:nvPr/>
        </p:nvSpPr>
        <p:spPr>
          <a:xfrm>
            <a:off x="4716360" y="1125360"/>
            <a:ext cx="1440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76"/>
          <p:cNvSpPr/>
          <p:nvPr/>
        </p:nvSpPr>
        <p:spPr>
          <a:xfrm flipV="1">
            <a:off x="6948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77"/>
          <p:cNvSpPr/>
          <p:nvPr/>
        </p:nvSpPr>
        <p:spPr>
          <a:xfrm>
            <a:off x="6948360" y="2997360"/>
            <a:ext cx="0" cy="14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78"/>
          <p:cNvSpPr/>
          <p:nvPr/>
        </p:nvSpPr>
        <p:spPr>
          <a:xfrm flipV="1">
            <a:off x="1979640" y="299700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"/>
          <p:cNvGrpSpPr/>
          <p:nvPr/>
        </p:nvGrpSpPr>
        <p:grpSpPr>
          <a:xfrm>
            <a:off x="3059280" y="1628640"/>
            <a:ext cx="3023640" cy="4393800"/>
            <a:chOff x="3059280" y="1628640"/>
            <a:chExt cx="3023640" cy="4393800"/>
          </a:xfrm>
        </p:grpSpPr>
        <p:sp>
          <p:nvSpPr>
            <p:cNvPr id="115" name="Rectangle 5"/>
            <p:cNvSpPr/>
            <p:nvPr/>
          </p:nvSpPr>
          <p:spPr>
            <a:xfrm>
              <a:off x="3712680" y="1628640"/>
              <a:ext cx="898200" cy="58572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4611240" y="1628640"/>
              <a:ext cx="816840" cy="585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5428080" y="199440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4203000" y="1774800"/>
              <a:ext cx="760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Lung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Text Box 9"/>
            <p:cNvSpPr/>
            <p:nvPr/>
          </p:nvSpPr>
          <p:spPr>
            <a:xfrm>
              <a:off x="3848760" y="5534280"/>
              <a:ext cx="16336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Body cell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 flipH="1">
              <a:off x="6081480" y="4264200"/>
              <a:ext cx="1440" cy="805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 flipH="1">
              <a:off x="6081480" y="2214360"/>
              <a:ext cx="1440" cy="51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Rectangle 12"/>
            <p:cNvSpPr/>
            <p:nvPr/>
          </p:nvSpPr>
          <p:spPr>
            <a:xfrm>
              <a:off x="3712680" y="5436360"/>
              <a:ext cx="898200" cy="586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Rectangle 13"/>
            <p:cNvSpPr/>
            <p:nvPr/>
          </p:nvSpPr>
          <p:spPr>
            <a:xfrm>
              <a:off x="4611240" y="5436360"/>
              <a:ext cx="816840" cy="5860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 flipH="1">
              <a:off x="3222360" y="587592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15"/>
            <p:cNvSpPr/>
            <p:nvPr/>
          </p:nvSpPr>
          <p:spPr>
            <a:xfrm flipV="1">
              <a:off x="3222720" y="3166560"/>
              <a:ext cx="0" cy="2709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3222720" y="3166560"/>
              <a:ext cx="8982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 flipH="1">
              <a:off x="3303720" y="5802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Line 18"/>
            <p:cNvSpPr/>
            <p:nvPr/>
          </p:nvSpPr>
          <p:spPr>
            <a:xfrm flipV="1">
              <a:off x="3304080" y="3239280"/>
              <a:ext cx="0" cy="2563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3304080" y="3239280"/>
              <a:ext cx="73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 flipV="1">
              <a:off x="3222720" y="1994040"/>
              <a:ext cx="0" cy="878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Line 21"/>
            <p:cNvSpPr/>
            <p:nvPr/>
          </p:nvSpPr>
          <p:spPr>
            <a:xfrm>
              <a:off x="3222720" y="199440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3304080" y="2067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23"/>
            <p:cNvSpPr/>
            <p:nvPr/>
          </p:nvSpPr>
          <p:spPr>
            <a:xfrm>
              <a:off x="3304080" y="206784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Freeform 24"/>
            <p:cNvSpPr/>
            <p:nvPr/>
          </p:nvSpPr>
          <p:spPr>
            <a:xfrm>
              <a:off x="3304080" y="2800080"/>
              <a:ext cx="1118160" cy="1440"/>
            </a:xfrm>
            <a:custGeom>
              <a:avLst/>
              <a:gdLst/>
              <a:ahLst/>
              <a:rect l="l" t="t" r="r" b="b"/>
              <a:pathLst>
                <a:path w="657" h="1">
                  <a:moveTo>
                    <a:pt x="0" y="0"/>
                  </a:moveTo>
                  <a:lnTo>
                    <a:pt x="657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5918400" y="3312720"/>
              <a:ext cx="0" cy="256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Line 26"/>
            <p:cNvSpPr/>
            <p:nvPr/>
          </p:nvSpPr>
          <p:spPr>
            <a:xfrm flipH="1">
              <a:off x="5427720" y="587592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5428080" y="5802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 flipV="1">
              <a:off x="5836320" y="3385800"/>
              <a:ext cx="0" cy="241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Line 29"/>
            <p:cNvSpPr/>
            <p:nvPr/>
          </p:nvSpPr>
          <p:spPr>
            <a:xfrm flipV="1">
              <a:off x="3059280" y="4411080"/>
              <a:ext cx="0" cy="8053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Line 30"/>
            <p:cNvSpPr/>
            <p:nvPr/>
          </p:nvSpPr>
          <p:spPr>
            <a:xfrm flipV="1">
              <a:off x="3059280" y="2140920"/>
              <a:ext cx="0" cy="51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4121280" y="3166560"/>
              <a:ext cx="0" cy="452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Line 32"/>
            <p:cNvSpPr/>
            <p:nvPr/>
          </p:nvSpPr>
          <p:spPr>
            <a:xfrm>
              <a:off x="5918400" y="1994400"/>
              <a:ext cx="0" cy="117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Line 33"/>
            <p:cNvSpPr/>
            <p:nvPr/>
          </p:nvSpPr>
          <p:spPr>
            <a:xfrm flipH="1">
              <a:off x="4938120" y="316656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4856400" y="309312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Line 35"/>
            <p:cNvSpPr/>
            <p:nvPr/>
          </p:nvSpPr>
          <p:spPr>
            <a:xfrm flipV="1">
              <a:off x="5836320" y="2067480"/>
              <a:ext cx="0" cy="102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36"/>
            <p:cNvSpPr/>
            <p:nvPr/>
          </p:nvSpPr>
          <p:spPr>
            <a:xfrm flipH="1">
              <a:off x="5428080" y="2067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4330440" y="2873520"/>
              <a:ext cx="1800" cy="700200"/>
            </a:xfrm>
            <a:custGeom>
              <a:avLst/>
              <a:gdLst/>
              <a:ahLst/>
              <a:rect l="l" t="t" r="r" b="b"/>
              <a:pathLst>
                <a:path w="1" h="459">
                  <a:moveTo>
                    <a:pt x="0" y="459"/>
                  </a:moveTo>
                  <a:lnTo>
                    <a:pt x="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Line 38"/>
            <p:cNvSpPr/>
            <p:nvPr/>
          </p:nvSpPr>
          <p:spPr>
            <a:xfrm flipV="1">
              <a:off x="4422600" y="280908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Line 39"/>
            <p:cNvSpPr/>
            <p:nvPr/>
          </p:nvSpPr>
          <p:spPr>
            <a:xfrm>
              <a:off x="4611240" y="3312720"/>
              <a:ext cx="130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Line 40"/>
            <p:cNvSpPr/>
            <p:nvPr/>
          </p:nvSpPr>
          <p:spPr>
            <a:xfrm flipH="1">
              <a:off x="4692960" y="3386160"/>
              <a:ext cx="114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Line 41"/>
            <p:cNvSpPr/>
            <p:nvPr/>
          </p:nvSpPr>
          <p:spPr>
            <a:xfrm>
              <a:off x="4611240" y="33127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Line 42"/>
            <p:cNvSpPr/>
            <p:nvPr/>
          </p:nvSpPr>
          <p:spPr>
            <a:xfrm>
              <a:off x="4692960" y="33861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Line 43"/>
            <p:cNvSpPr/>
            <p:nvPr/>
          </p:nvSpPr>
          <p:spPr>
            <a:xfrm>
              <a:off x="4856400" y="30931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44"/>
            <p:cNvSpPr/>
            <p:nvPr/>
          </p:nvSpPr>
          <p:spPr>
            <a:xfrm>
              <a:off x="4938120" y="31665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45"/>
            <p:cNvSpPr/>
            <p:nvPr/>
          </p:nvSpPr>
          <p:spPr>
            <a:xfrm>
              <a:off x="4938120" y="3386160"/>
              <a:ext cx="0" cy="29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56" name="Object 46"/>
            <p:cNvGraphicFramePr/>
            <p:nvPr/>
          </p:nvGraphicFramePr>
          <p:xfrm>
            <a:off x="4039200" y="3459240"/>
            <a:ext cx="913680" cy="106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" name="Object 4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9200" y="3459240"/>
                      <a:ext cx="913680" cy="106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" name="Line 47"/>
            <p:cNvSpPr/>
            <p:nvPr/>
          </p:nvSpPr>
          <p:spPr>
            <a:xfrm>
              <a:off x="4856400" y="3386160"/>
              <a:ext cx="0" cy="260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48"/>
            <p:cNvSpPr/>
            <p:nvPr/>
          </p:nvSpPr>
          <p:spPr>
            <a:xfrm>
              <a:off x="4039200" y="3239280"/>
              <a:ext cx="1800" cy="47592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49"/>
            <p:cNvSpPr/>
            <p:nvPr/>
          </p:nvSpPr>
          <p:spPr>
            <a:xfrm>
              <a:off x="3222720" y="2873520"/>
              <a:ext cx="1107360" cy="1080"/>
            </a:xfrm>
            <a:custGeom>
              <a:avLst/>
              <a:gdLst/>
              <a:ahLst/>
              <a:rect l="l" t="t" r="r" b="b"/>
              <a:pathLst>
                <a:path w="651" h="1">
                  <a:moveTo>
                    <a:pt x="0" y="0"/>
                  </a:moveTo>
                  <a:lnTo>
                    <a:pt x="65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1" name="Rectangle 51"/>
          <p:cNvSpPr/>
          <p:nvPr/>
        </p:nvSpPr>
        <p:spPr>
          <a:xfrm>
            <a:off x="0" y="476280"/>
            <a:ext cx="91440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ur circulatory system is a double circulatory syste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is means it has two parts part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52"/>
          <p:cNvSpPr/>
          <p:nvPr/>
        </p:nvSpPr>
        <p:spPr>
          <a:xfrm>
            <a:off x="468360" y="3141720"/>
            <a:ext cx="2448000" cy="23857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righ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e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53"/>
          <p:cNvSpPr/>
          <p:nvPr/>
        </p:nvSpPr>
        <p:spPr>
          <a:xfrm>
            <a:off x="6227640" y="3141720"/>
            <a:ext cx="2305080" cy="22345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ef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6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7" descr="HEART"/>
          <p:cNvPicPr/>
          <p:nvPr/>
        </p:nvPicPr>
        <p:blipFill>
          <a:blip r:embed="rId1"/>
          <a:stretch/>
        </p:blipFill>
        <p:spPr>
          <a:xfrm>
            <a:off x="3203640" y="1916280"/>
            <a:ext cx="2636640" cy="32112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6156360" y="134136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se ar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ies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They carry blood away from the hear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9"/>
          <p:cNvSpPr/>
          <p:nvPr/>
        </p:nvSpPr>
        <p:spPr>
          <a:xfrm flipH="1">
            <a:off x="4643280" y="1773360"/>
            <a:ext cx="1441440" cy="36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10"/>
          <p:cNvSpPr/>
          <p:nvPr/>
        </p:nvSpPr>
        <p:spPr>
          <a:xfrm flipH="1">
            <a:off x="4788000" y="1773360"/>
            <a:ext cx="1296720" cy="9349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24000" y="134136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is is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It brings blood from the body, except the lung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1619280" y="2421000"/>
            <a:ext cx="201600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6372360" y="386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Coronary arteries, the hearts own blood supp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14"/>
          <p:cNvSpPr/>
          <p:nvPr/>
        </p:nvSpPr>
        <p:spPr>
          <a:xfrm flipH="1" flipV="1">
            <a:off x="3634920" y="3789360"/>
            <a:ext cx="273708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15"/>
          <p:cNvSpPr/>
          <p:nvPr/>
        </p:nvSpPr>
        <p:spPr>
          <a:xfrm flipH="1">
            <a:off x="5292360" y="4076640"/>
            <a:ext cx="1079640" cy="144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179280" y="537372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 heart has four chamb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250920" y="3500280"/>
            <a:ext cx="108108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atr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1187280" y="4365720"/>
            <a:ext cx="180216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ventric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19"/>
          <p:cNvSpPr/>
          <p:nvPr/>
        </p:nvSpPr>
        <p:spPr>
          <a:xfrm flipV="1">
            <a:off x="1403280" y="2924280"/>
            <a:ext cx="3745080" cy="7207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20"/>
          <p:cNvSpPr/>
          <p:nvPr/>
        </p:nvSpPr>
        <p:spPr>
          <a:xfrm flipV="1">
            <a:off x="1403280" y="3429000"/>
            <a:ext cx="2160720" cy="2174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21"/>
          <p:cNvSpPr/>
          <p:nvPr/>
        </p:nvSpPr>
        <p:spPr>
          <a:xfrm>
            <a:off x="3059280" y="4508640"/>
            <a:ext cx="2520720" cy="2156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22"/>
          <p:cNvSpPr/>
          <p:nvPr/>
        </p:nvSpPr>
        <p:spPr>
          <a:xfrm flipV="1">
            <a:off x="3132000" y="4365360"/>
            <a:ext cx="1224000" cy="1429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23"/>
          <p:cNvSpPr/>
          <p:nvPr/>
        </p:nvSpPr>
        <p:spPr>
          <a:xfrm flipV="1">
            <a:off x="755640" y="4220640"/>
            <a:ext cx="0" cy="1079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24"/>
          <p:cNvSpPr/>
          <p:nvPr/>
        </p:nvSpPr>
        <p:spPr>
          <a:xfrm flipV="1">
            <a:off x="2268360" y="4868640"/>
            <a:ext cx="0" cy="43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0" y="5950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now lets look inside the he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10" descr="heart1"/>
          <p:cNvPicPr/>
          <p:nvPr/>
        </p:nvPicPr>
        <p:blipFill>
          <a:blip r:embed="rId1"/>
          <a:stretch/>
        </p:blipFill>
        <p:spPr>
          <a:xfrm>
            <a:off x="2076480" y="1125360"/>
            <a:ext cx="4751280" cy="4967640"/>
          </a:xfrm>
          <a:prstGeom prst="rect">
            <a:avLst/>
          </a:prstGeom>
          <a:ln w="0">
            <a:noFill/>
          </a:ln>
        </p:spPr>
      </p:pic>
      <p:sp>
        <p:nvSpPr>
          <p:cNvPr id="186" name="Line 12"/>
          <p:cNvSpPr/>
          <p:nvPr/>
        </p:nvSpPr>
        <p:spPr>
          <a:xfrm flipV="1">
            <a:off x="1908000" y="3357720"/>
            <a:ext cx="1872000" cy="288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Line 13"/>
          <p:cNvSpPr/>
          <p:nvPr/>
        </p:nvSpPr>
        <p:spPr>
          <a:xfrm flipV="1">
            <a:off x="2195640" y="4221000"/>
            <a:ext cx="1439640" cy="216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14"/>
          <p:cNvSpPr/>
          <p:nvPr/>
        </p:nvSpPr>
        <p:spPr>
          <a:xfrm flipV="1">
            <a:off x="1763640" y="5229360"/>
            <a:ext cx="2089080" cy="2872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15"/>
          <p:cNvSpPr/>
          <p:nvPr/>
        </p:nvSpPr>
        <p:spPr>
          <a:xfrm flipH="1" flipV="1">
            <a:off x="5076360" y="5084280"/>
            <a:ext cx="2016360" cy="360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16"/>
          <p:cNvSpPr/>
          <p:nvPr/>
        </p:nvSpPr>
        <p:spPr>
          <a:xfrm flipH="1" flipV="1">
            <a:off x="5435280" y="3428640"/>
            <a:ext cx="1800360" cy="2890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804000" y="5445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7236000" y="3500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250920" y="335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250920" y="5516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1403280" y="4221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6227640" y="2205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 from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4788000" y="1268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y to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1476360" y="1268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Artery to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179280" y="2060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Vein from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28"/>
          <p:cNvSpPr/>
          <p:nvPr/>
        </p:nvSpPr>
        <p:spPr>
          <a:xfrm flipH="1" flipV="1">
            <a:off x="4716000" y="3429000"/>
            <a:ext cx="2016360" cy="936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6732720" y="4149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3" name="Group 21"/>
          <p:cNvGrpSpPr/>
          <p:nvPr/>
        </p:nvGrpSpPr>
        <p:grpSpPr>
          <a:xfrm>
            <a:off x="468360" y="1844640"/>
            <a:ext cx="8424360" cy="3123360"/>
            <a:chOff x="468360" y="1844640"/>
            <a:chExt cx="8424360" cy="3123360"/>
          </a:xfrm>
        </p:grpSpPr>
        <p:grpSp>
          <p:nvGrpSpPr>
            <p:cNvPr id="204" name="Group 22"/>
            <p:cNvGrpSpPr/>
            <p:nvPr/>
          </p:nvGrpSpPr>
          <p:grpSpPr>
            <a:xfrm>
              <a:off x="1547280" y="2038680"/>
              <a:ext cx="2493360" cy="2929320"/>
              <a:chOff x="1547280" y="2038680"/>
              <a:chExt cx="2493360" cy="2929320"/>
            </a:xfrm>
          </p:grpSpPr>
          <p:sp>
            <p:nvSpPr>
              <p:cNvPr id="205" name="Freeform 23"/>
              <p:cNvSpPr/>
              <p:nvPr/>
            </p:nvSpPr>
            <p:spPr>
              <a:xfrm>
                <a:off x="3225960" y="2404800"/>
                <a:ext cx="682560" cy="887400"/>
              </a:xfrm>
              <a:custGeom>
                <a:avLst/>
                <a:gdLst/>
                <a:ahLst/>
                <a:rect l="l" t="t" r="r" b="b"/>
                <a:pathLst>
                  <a:path w="602" h="781">
                    <a:moveTo>
                      <a:pt x="76" y="159"/>
                    </a:moveTo>
                    <a:cubicBezTo>
                      <a:pt x="0" y="185"/>
                      <a:pt x="18" y="159"/>
                      <a:pt x="0" y="214"/>
                    </a:cubicBezTo>
                    <a:cubicBezTo>
                      <a:pt x="4" y="258"/>
                      <a:pt x="4" y="302"/>
                      <a:pt x="11" y="345"/>
                    </a:cubicBezTo>
                    <a:cubicBezTo>
                      <a:pt x="24" y="422"/>
                      <a:pt x="62" y="512"/>
                      <a:pt x="87" y="585"/>
                    </a:cubicBezTo>
                    <a:cubicBezTo>
                      <a:pt x="95" y="608"/>
                      <a:pt x="101" y="633"/>
                      <a:pt x="120" y="650"/>
                    </a:cubicBezTo>
                    <a:cubicBezTo>
                      <a:pt x="140" y="667"/>
                      <a:pt x="185" y="694"/>
                      <a:pt x="185" y="694"/>
                    </a:cubicBezTo>
                    <a:cubicBezTo>
                      <a:pt x="199" y="735"/>
                      <a:pt x="227" y="745"/>
                      <a:pt x="251" y="781"/>
                    </a:cubicBezTo>
                    <a:cubicBezTo>
                      <a:pt x="276" y="777"/>
                      <a:pt x="303" y="777"/>
                      <a:pt x="327" y="770"/>
                    </a:cubicBezTo>
                    <a:cubicBezTo>
                      <a:pt x="397" y="749"/>
                      <a:pt x="420" y="640"/>
                      <a:pt x="458" y="585"/>
                    </a:cubicBezTo>
                    <a:cubicBezTo>
                      <a:pt x="479" y="521"/>
                      <a:pt x="453" y="579"/>
                      <a:pt x="501" y="530"/>
                    </a:cubicBezTo>
                    <a:cubicBezTo>
                      <a:pt x="570" y="459"/>
                      <a:pt x="472" y="531"/>
                      <a:pt x="556" y="475"/>
                    </a:cubicBezTo>
                    <a:cubicBezTo>
                      <a:pt x="602" y="408"/>
                      <a:pt x="593" y="303"/>
                      <a:pt x="600" y="225"/>
                    </a:cubicBezTo>
                    <a:cubicBezTo>
                      <a:pt x="586" y="155"/>
                      <a:pt x="600" y="87"/>
                      <a:pt x="523" y="61"/>
                    </a:cubicBezTo>
                    <a:cubicBezTo>
                      <a:pt x="434" y="0"/>
                      <a:pt x="400" y="31"/>
                      <a:pt x="261" y="39"/>
                    </a:cubicBezTo>
                    <a:cubicBezTo>
                      <a:pt x="239" y="46"/>
                      <a:pt x="218" y="54"/>
                      <a:pt x="196" y="61"/>
                    </a:cubicBezTo>
                    <a:cubicBezTo>
                      <a:pt x="185" y="65"/>
                      <a:pt x="163" y="72"/>
                      <a:pt x="163" y="72"/>
                    </a:cubicBezTo>
                    <a:cubicBezTo>
                      <a:pt x="141" y="86"/>
                      <a:pt x="120" y="101"/>
                      <a:pt x="98" y="115"/>
                    </a:cubicBezTo>
                    <a:cubicBezTo>
                      <a:pt x="58" y="141"/>
                      <a:pt x="59" y="125"/>
                      <a:pt x="76" y="159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" name="Freeform 24"/>
              <p:cNvSpPr/>
              <p:nvPr/>
            </p:nvSpPr>
            <p:spPr>
              <a:xfrm>
                <a:off x="1741680" y="2633040"/>
                <a:ext cx="580320" cy="792720"/>
              </a:xfrm>
              <a:custGeom>
                <a:avLst/>
                <a:gdLst/>
                <a:ahLst/>
                <a:rect l="l" t="t" r="r" b="b"/>
                <a:pathLst>
                  <a:path w="512" h="653">
                    <a:moveTo>
                      <a:pt x="0" y="227"/>
                    </a:moveTo>
                    <a:cubicBezTo>
                      <a:pt x="11" y="314"/>
                      <a:pt x="21" y="405"/>
                      <a:pt x="98" y="456"/>
                    </a:cubicBezTo>
                    <a:cubicBezTo>
                      <a:pt x="105" y="467"/>
                      <a:pt x="110" y="479"/>
                      <a:pt x="120" y="488"/>
                    </a:cubicBezTo>
                    <a:cubicBezTo>
                      <a:pt x="140" y="505"/>
                      <a:pt x="185" y="532"/>
                      <a:pt x="185" y="532"/>
                    </a:cubicBezTo>
                    <a:cubicBezTo>
                      <a:pt x="248" y="626"/>
                      <a:pt x="164" y="516"/>
                      <a:pt x="240" y="576"/>
                    </a:cubicBezTo>
                    <a:cubicBezTo>
                      <a:pt x="250" y="584"/>
                      <a:pt x="252" y="599"/>
                      <a:pt x="261" y="608"/>
                    </a:cubicBezTo>
                    <a:cubicBezTo>
                      <a:pt x="270" y="617"/>
                      <a:pt x="283" y="623"/>
                      <a:pt x="294" y="630"/>
                    </a:cubicBezTo>
                    <a:cubicBezTo>
                      <a:pt x="466" y="601"/>
                      <a:pt x="254" y="653"/>
                      <a:pt x="403" y="554"/>
                    </a:cubicBezTo>
                    <a:cubicBezTo>
                      <a:pt x="425" y="539"/>
                      <a:pt x="469" y="510"/>
                      <a:pt x="469" y="510"/>
                    </a:cubicBezTo>
                    <a:cubicBezTo>
                      <a:pt x="493" y="473"/>
                      <a:pt x="501" y="444"/>
                      <a:pt x="512" y="401"/>
                    </a:cubicBezTo>
                    <a:cubicBezTo>
                      <a:pt x="499" y="282"/>
                      <a:pt x="470" y="205"/>
                      <a:pt x="403" y="107"/>
                    </a:cubicBezTo>
                    <a:cubicBezTo>
                      <a:pt x="391" y="89"/>
                      <a:pt x="295" y="49"/>
                      <a:pt x="272" y="41"/>
                    </a:cubicBezTo>
                    <a:cubicBezTo>
                      <a:pt x="219" y="4"/>
                      <a:pt x="227" y="0"/>
                      <a:pt x="130" y="30"/>
                    </a:cubicBezTo>
                    <a:cubicBezTo>
                      <a:pt x="105" y="38"/>
                      <a:pt x="65" y="74"/>
                      <a:pt x="65" y="74"/>
                    </a:cubicBezTo>
                    <a:cubicBezTo>
                      <a:pt x="31" y="124"/>
                      <a:pt x="0" y="164"/>
                      <a:pt x="0" y="22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" name="Freeform 25"/>
              <p:cNvSpPr/>
              <p:nvPr/>
            </p:nvSpPr>
            <p:spPr>
              <a:xfrm>
                <a:off x="1680840" y="2316240"/>
                <a:ext cx="2285640" cy="265176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1938960" y="2418120"/>
                <a:ext cx="531360" cy="1024920"/>
              </a:xfrm>
              <a:custGeom>
                <a:avLst/>
                <a:gdLst/>
                <a:ahLst/>
                <a:rect l="l" t="t" r="r" b="b"/>
                <a:pathLst>
                  <a:path w="469" h="844">
                    <a:moveTo>
                      <a:pt x="0" y="174"/>
                    </a:moveTo>
                    <a:cubicBezTo>
                      <a:pt x="77" y="200"/>
                      <a:pt x="44" y="188"/>
                      <a:pt x="98" y="207"/>
                    </a:cubicBezTo>
                    <a:cubicBezTo>
                      <a:pt x="123" y="216"/>
                      <a:pt x="142" y="236"/>
                      <a:pt x="164" y="251"/>
                    </a:cubicBezTo>
                    <a:cubicBezTo>
                      <a:pt x="175" y="258"/>
                      <a:pt x="196" y="273"/>
                      <a:pt x="196" y="273"/>
                    </a:cubicBezTo>
                    <a:cubicBezTo>
                      <a:pt x="200" y="284"/>
                      <a:pt x="202" y="295"/>
                      <a:pt x="207" y="305"/>
                    </a:cubicBezTo>
                    <a:cubicBezTo>
                      <a:pt x="213" y="317"/>
                      <a:pt x="224" y="326"/>
                      <a:pt x="229" y="338"/>
                    </a:cubicBezTo>
                    <a:cubicBezTo>
                      <a:pt x="238" y="359"/>
                      <a:pt x="251" y="404"/>
                      <a:pt x="251" y="404"/>
                    </a:cubicBezTo>
                    <a:cubicBezTo>
                      <a:pt x="264" y="509"/>
                      <a:pt x="260" y="643"/>
                      <a:pt x="164" y="709"/>
                    </a:cubicBezTo>
                    <a:cubicBezTo>
                      <a:pt x="146" y="764"/>
                      <a:pt x="127" y="742"/>
                      <a:pt x="109" y="796"/>
                    </a:cubicBezTo>
                    <a:cubicBezTo>
                      <a:pt x="113" y="807"/>
                      <a:pt x="110" y="824"/>
                      <a:pt x="120" y="829"/>
                    </a:cubicBezTo>
                    <a:cubicBezTo>
                      <a:pt x="150" y="844"/>
                      <a:pt x="165" y="793"/>
                      <a:pt x="175" y="785"/>
                    </a:cubicBezTo>
                    <a:cubicBezTo>
                      <a:pt x="194" y="770"/>
                      <a:pt x="220" y="766"/>
                      <a:pt x="240" y="753"/>
                    </a:cubicBezTo>
                    <a:cubicBezTo>
                      <a:pt x="247" y="742"/>
                      <a:pt x="253" y="729"/>
                      <a:pt x="262" y="720"/>
                    </a:cubicBezTo>
                    <a:cubicBezTo>
                      <a:pt x="271" y="711"/>
                      <a:pt x="287" y="708"/>
                      <a:pt x="295" y="698"/>
                    </a:cubicBezTo>
                    <a:cubicBezTo>
                      <a:pt x="302" y="689"/>
                      <a:pt x="301" y="675"/>
                      <a:pt x="306" y="665"/>
                    </a:cubicBezTo>
                    <a:cubicBezTo>
                      <a:pt x="312" y="654"/>
                      <a:pt x="322" y="645"/>
                      <a:pt x="327" y="633"/>
                    </a:cubicBezTo>
                    <a:cubicBezTo>
                      <a:pt x="349" y="582"/>
                      <a:pt x="352" y="546"/>
                      <a:pt x="382" y="502"/>
                    </a:cubicBezTo>
                    <a:cubicBezTo>
                      <a:pt x="397" y="506"/>
                      <a:pt x="412" y="507"/>
                      <a:pt x="426" y="513"/>
                    </a:cubicBezTo>
                    <a:cubicBezTo>
                      <a:pt x="438" y="518"/>
                      <a:pt x="446" y="537"/>
                      <a:pt x="458" y="534"/>
                    </a:cubicBezTo>
                    <a:cubicBezTo>
                      <a:pt x="469" y="531"/>
                      <a:pt x="465" y="513"/>
                      <a:pt x="469" y="502"/>
                    </a:cubicBezTo>
                    <a:cubicBezTo>
                      <a:pt x="453" y="455"/>
                      <a:pt x="431" y="419"/>
                      <a:pt x="415" y="371"/>
                    </a:cubicBezTo>
                    <a:cubicBezTo>
                      <a:pt x="411" y="360"/>
                      <a:pt x="408" y="349"/>
                      <a:pt x="404" y="338"/>
                    </a:cubicBezTo>
                    <a:cubicBezTo>
                      <a:pt x="400" y="327"/>
                      <a:pt x="393" y="305"/>
                      <a:pt x="393" y="305"/>
                    </a:cubicBezTo>
                    <a:cubicBezTo>
                      <a:pt x="389" y="207"/>
                      <a:pt x="397" y="108"/>
                      <a:pt x="382" y="11"/>
                    </a:cubicBezTo>
                    <a:cubicBezTo>
                      <a:pt x="380" y="0"/>
                      <a:pt x="356" y="13"/>
                      <a:pt x="349" y="22"/>
                    </a:cubicBezTo>
                    <a:cubicBezTo>
                      <a:pt x="340" y="33"/>
                      <a:pt x="342" y="51"/>
                      <a:pt x="338" y="65"/>
                    </a:cubicBezTo>
                    <a:cubicBezTo>
                      <a:pt x="334" y="123"/>
                      <a:pt x="331" y="182"/>
                      <a:pt x="327" y="240"/>
                    </a:cubicBezTo>
                    <a:cubicBezTo>
                      <a:pt x="324" y="284"/>
                      <a:pt x="335" y="332"/>
                      <a:pt x="316" y="371"/>
                    </a:cubicBezTo>
                    <a:cubicBezTo>
                      <a:pt x="306" y="392"/>
                      <a:pt x="302" y="327"/>
                      <a:pt x="295" y="305"/>
                    </a:cubicBezTo>
                    <a:cubicBezTo>
                      <a:pt x="291" y="293"/>
                      <a:pt x="273" y="291"/>
                      <a:pt x="262" y="284"/>
                    </a:cubicBezTo>
                    <a:cubicBezTo>
                      <a:pt x="258" y="273"/>
                      <a:pt x="259" y="259"/>
                      <a:pt x="251" y="251"/>
                    </a:cubicBezTo>
                    <a:cubicBezTo>
                      <a:pt x="243" y="243"/>
                      <a:pt x="228" y="245"/>
                      <a:pt x="218" y="240"/>
                    </a:cubicBezTo>
                    <a:cubicBezTo>
                      <a:pt x="170" y="216"/>
                      <a:pt x="122" y="185"/>
                      <a:pt x="66" y="185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3089880" y="2347560"/>
                <a:ext cx="469440" cy="988560"/>
              </a:xfrm>
              <a:custGeom>
                <a:avLst/>
                <a:gdLst/>
                <a:ahLst/>
                <a:rect l="l" t="t" r="r" b="b"/>
                <a:pathLst>
                  <a:path w="414" h="814">
                    <a:moveTo>
                      <a:pt x="414" y="47"/>
                    </a:moveTo>
                    <a:cubicBezTo>
                      <a:pt x="357" y="66"/>
                      <a:pt x="301" y="79"/>
                      <a:pt x="251" y="112"/>
                    </a:cubicBezTo>
                    <a:cubicBezTo>
                      <a:pt x="212" y="228"/>
                      <a:pt x="273" y="55"/>
                      <a:pt x="218" y="178"/>
                    </a:cubicBezTo>
                    <a:cubicBezTo>
                      <a:pt x="209" y="199"/>
                      <a:pt x="196" y="243"/>
                      <a:pt x="196" y="243"/>
                    </a:cubicBezTo>
                    <a:cubicBezTo>
                      <a:pt x="200" y="331"/>
                      <a:pt x="175" y="573"/>
                      <a:pt x="283" y="647"/>
                    </a:cubicBezTo>
                    <a:cubicBezTo>
                      <a:pt x="290" y="658"/>
                      <a:pt x="299" y="668"/>
                      <a:pt x="305" y="680"/>
                    </a:cubicBezTo>
                    <a:cubicBezTo>
                      <a:pt x="310" y="690"/>
                      <a:pt x="310" y="702"/>
                      <a:pt x="316" y="712"/>
                    </a:cubicBezTo>
                    <a:cubicBezTo>
                      <a:pt x="329" y="735"/>
                      <a:pt x="368" y="803"/>
                      <a:pt x="360" y="778"/>
                    </a:cubicBezTo>
                    <a:cubicBezTo>
                      <a:pt x="345" y="732"/>
                      <a:pt x="359" y="751"/>
                      <a:pt x="316" y="723"/>
                    </a:cubicBezTo>
                    <a:cubicBezTo>
                      <a:pt x="316" y="723"/>
                      <a:pt x="338" y="738"/>
                      <a:pt x="349" y="745"/>
                    </a:cubicBezTo>
                    <a:cubicBezTo>
                      <a:pt x="353" y="756"/>
                      <a:pt x="355" y="768"/>
                      <a:pt x="360" y="778"/>
                    </a:cubicBezTo>
                    <a:cubicBezTo>
                      <a:pt x="366" y="790"/>
                      <a:pt x="394" y="814"/>
                      <a:pt x="381" y="811"/>
                    </a:cubicBezTo>
                    <a:cubicBezTo>
                      <a:pt x="356" y="805"/>
                      <a:pt x="338" y="782"/>
                      <a:pt x="316" y="767"/>
                    </a:cubicBezTo>
                    <a:cubicBezTo>
                      <a:pt x="305" y="760"/>
                      <a:pt x="283" y="745"/>
                      <a:pt x="283" y="745"/>
                    </a:cubicBezTo>
                    <a:cubicBezTo>
                      <a:pt x="269" y="702"/>
                      <a:pt x="262" y="684"/>
                      <a:pt x="218" y="669"/>
                    </a:cubicBezTo>
                    <a:cubicBezTo>
                      <a:pt x="203" y="647"/>
                      <a:pt x="182" y="628"/>
                      <a:pt x="174" y="603"/>
                    </a:cubicBezTo>
                    <a:cubicBezTo>
                      <a:pt x="159" y="560"/>
                      <a:pt x="146" y="515"/>
                      <a:pt x="131" y="472"/>
                    </a:cubicBezTo>
                    <a:cubicBezTo>
                      <a:pt x="127" y="461"/>
                      <a:pt x="128" y="448"/>
                      <a:pt x="120" y="440"/>
                    </a:cubicBezTo>
                    <a:cubicBezTo>
                      <a:pt x="112" y="432"/>
                      <a:pt x="98" y="433"/>
                      <a:pt x="87" y="429"/>
                    </a:cubicBezTo>
                    <a:cubicBezTo>
                      <a:pt x="62" y="433"/>
                      <a:pt x="37" y="440"/>
                      <a:pt x="11" y="440"/>
                    </a:cubicBezTo>
                    <a:cubicBezTo>
                      <a:pt x="0" y="440"/>
                      <a:pt x="34" y="436"/>
                      <a:pt x="43" y="429"/>
                    </a:cubicBezTo>
                    <a:cubicBezTo>
                      <a:pt x="53" y="421"/>
                      <a:pt x="60" y="408"/>
                      <a:pt x="65" y="396"/>
                    </a:cubicBezTo>
                    <a:cubicBezTo>
                      <a:pt x="67" y="393"/>
                      <a:pt x="92" y="316"/>
                      <a:pt x="98" y="298"/>
                    </a:cubicBezTo>
                    <a:cubicBezTo>
                      <a:pt x="102" y="287"/>
                      <a:pt x="109" y="265"/>
                      <a:pt x="109" y="265"/>
                    </a:cubicBezTo>
                    <a:cubicBezTo>
                      <a:pt x="105" y="225"/>
                      <a:pt x="104" y="185"/>
                      <a:pt x="98" y="145"/>
                    </a:cubicBezTo>
                    <a:cubicBezTo>
                      <a:pt x="96" y="134"/>
                      <a:pt x="93" y="122"/>
                      <a:pt x="87" y="112"/>
                    </a:cubicBezTo>
                    <a:cubicBezTo>
                      <a:pt x="24" y="0"/>
                      <a:pt x="40" y="39"/>
                      <a:pt x="54" y="80"/>
                    </a:cubicBezTo>
                    <a:cubicBezTo>
                      <a:pt x="58" y="91"/>
                      <a:pt x="77" y="86"/>
                      <a:pt x="87" y="91"/>
                    </a:cubicBezTo>
                    <a:cubicBezTo>
                      <a:pt x="99" y="97"/>
                      <a:pt x="109" y="105"/>
                      <a:pt x="120" y="112"/>
                    </a:cubicBezTo>
                    <a:cubicBezTo>
                      <a:pt x="222" y="102"/>
                      <a:pt x="314" y="69"/>
                      <a:pt x="414" y="4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" name="AutoShape 28"/>
              <p:cNvSpPr/>
              <p:nvPr/>
            </p:nvSpPr>
            <p:spPr>
              <a:xfrm rot="2773800">
                <a:off x="1496520" y="258336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" name="AutoShape 29"/>
              <p:cNvSpPr/>
              <p:nvPr/>
            </p:nvSpPr>
            <p:spPr>
              <a:xfrm rot="7987200">
                <a:off x="3510000" y="223380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2" name="Text Box 30"/>
            <p:cNvSpPr/>
            <p:nvPr/>
          </p:nvSpPr>
          <p:spPr>
            <a:xfrm>
              <a:off x="468360" y="1904760"/>
              <a:ext cx="182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Arial"/>
                </a:rPr>
                <a:t>blood from the bod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Text Box 31"/>
            <p:cNvSpPr/>
            <p:nvPr/>
          </p:nvSpPr>
          <p:spPr>
            <a:xfrm>
              <a:off x="4271760" y="1844640"/>
              <a:ext cx="152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blood from the lung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Text Box 32"/>
            <p:cNvSpPr/>
            <p:nvPr/>
          </p:nvSpPr>
          <p:spPr>
            <a:xfrm>
              <a:off x="4284360" y="2758680"/>
              <a:ext cx="460836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heart beat begins when th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heart muscles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s into the atria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5" name="Text Box 48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"/>
          <p:cNvGrpSpPr/>
          <p:nvPr/>
        </p:nvGrpSpPr>
        <p:grpSpPr>
          <a:xfrm>
            <a:off x="324000" y="2133720"/>
            <a:ext cx="8070840" cy="2666880"/>
            <a:chOff x="324000" y="2133720"/>
            <a:chExt cx="8070840" cy="2666880"/>
          </a:xfrm>
        </p:grpSpPr>
        <p:grpSp>
          <p:nvGrpSpPr>
            <p:cNvPr id="217" name="Group 5"/>
            <p:cNvGrpSpPr/>
            <p:nvPr/>
          </p:nvGrpSpPr>
          <p:grpSpPr>
            <a:xfrm>
              <a:off x="5194440" y="2133720"/>
              <a:ext cx="3200400" cy="2666880"/>
              <a:chOff x="5194440" y="2133720"/>
              <a:chExt cx="3200400" cy="2666880"/>
            </a:xfrm>
          </p:grpSpPr>
          <p:grpSp>
            <p:nvGrpSpPr>
              <p:cNvPr id="218" name="Group 6"/>
              <p:cNvGrpSpPr/>
              <p:nvPr/>
            </p:nvGrpSpPr>
            <p:grpSpPr>
              <a:xfrm>
                <a:off x="5575680" y="2133720"/>
                <a:ext cx="2361960" cy="2666880"/>
                <a:chOff x="5575680" y="2133720"/>
                <a:chExt cx="2361960" cy="2666880"/>
              </a:xfrm>
            </p:grpSpPr>
            <p:sp>
              <p:nvSpPr>
                <p:cNvPr id="219" name="Freeform 7"/>
                <p:cNvSpPr/>
                <p:nvPr/>
              </p:nvSpPr>
              <p:spPr>
                <a:xfrm>
                  <a:off x="6644880" y="2641680"/>
                  <a:ext cx="1027440" cy="1758600"/>
                </a:xfrm>
                <a:custGeom>
                  <a:avLst/>
                  <a:gdLst/>
                  <a:ahLst/>
                  <a:rect l="l" t="t" r="r" b="b"/>
                  <a:pathLst>
                    <a:path w="919" h="1582">
                      <a:moveTo>
                        <a:pt x="54" y="120"/>
                      </a:moveTo>
                      <a:cubicBezTo>
                        <a:pt x="24" y="209"/>
                        <a:pt x="65" y="73"/>
                        <a:pt x="54" y="262"/>
                      </a:cubicBezTo>
                      <a:cubicBezTo>
                        <a:pt x="51" y="322"/>
                        <a:pt x="19" y="390"/>
                        <a:pt x="0" y="447"/>
                      </a:cubicBezTo>
                      <a:cubicBezTo>
                        <a:pt x="4" y="582"/>
                        <a:pt x="5" y="716"/>
                        <a:pt x="11" y="851"/>
                      </a:cubicBezTo>
                      <a:cubicBezTo>
                        <a:pt x="13" y="888"/>
                        <a:pt x="23" y="924"/>
                        <a:pt x="32" y="960"/>
                      </a:cubicBezTo>
                      <a:cubicBezTo>
                        <a:pt x="38" y="982"/>
                        <a:pt x="54" y="1026"/>
                        <a:pt x="54" y="1026"/>
                      </a:cubicBezTo>
                      <a:cubicBezTo>
                        <a:pt x="45" y="1161"/>
                        <a:pt x="25" y="1308"/>
                        <a:pt x="65" y="1440"/>
                      </a:cubicBezTo>
                      <a:cubicBezTo>
                        <a:pt x="71" y="1461"/>
                        <a:pt x="85" y="1519"/>
                        <a:pt x="109" y="1538"/>
                      </a:cubicBezTo>
                      <a:cubicBezTo>
                        <a:pt x="132" y="1556"/>
                        <a:pt x="179" y="1573"/>
                        <a:pt x="207" y="1582"/>
                      </a:cubicBezTo>
                      <a:cubicBezTo>
                        <a:pt x="296" y="1569"/>
                        <a:pt x="319" y="1582"/>
                        <a:pt x="349" y="1495"/>
                      </a:cubicBezTo>
                      <a:cubicBezTo>
                        <a:pt x="360" y="1349"/>
                        <a:pt x="361" y="1301"/>
                        <a:pt x="436" y="1189"/>
                      </a:cubicBezTo>
                      <a:cubicBezTo>
                        <a:pt x="442" y="1180"/>
                        <a:pt x="441" y="1167"/>
                        <a:pt x="447" y="1157"/>
                      </a:cubicBezTo>
                      <a:cubicBezTo>
                        <a:pt x="485" y="1089"/>
                        <a:pt x="476" y="1102"/>
                        <a:pt x="523" y="1069"/>
                      </a:cubicBezTo>
                      <a:cubicBezTo>
                        <a:pt x="579" y="988"/>
                        <a:pt x="568" y="875"/>
                        <a:pt x="654" y="818"/>
                      </a:cubicBezTo>
                      <a:cubicBezTo>
                        <a:pt x="661" y="807"/>
                        <a:pt x="667" y="795"/>
                        <a:pt x="676" y="786"/>
                      </a:cubicBezTo>
                      <a:cubicBezTo>
                        <a:pt x="685" y="777"/>
                        <a:pt x="700" y="774"/>
                        <a:pt x="709" y="764"/>
                      </a:cubicBezTo>
                      <a:cubicBezTo>
                        <a:pt x="795" y="664"/>
                        <a:pt x="712" y="724"/>
                        <a:pt x="785" y="677"/>
                      </a:cubicBezTo>
                      <a:cubicBezTo>
                        <a:pt x="819" y="626"/>
                        <a:pt x="835" y="589"/>
                        <a:pt x="883" y="557"/>
                      </a:cubicBezTo>
                      <a:cubicBezTo>
                        <a:pt x="891" y="534"/>
                        <a:pt x="914" y="516"/>
                        <a:pt x="916" y="491"/>
                      </a:cubicBezTo>
                      <a:cubicBezTo>
                        <a:pt x="919" y="458"/>
                        <a:pt x="911" y="425"/>
                        <a:pt x="905" y="393"/>
                      </a:cubicBezTo>
                      <a:cubicBezTo>
                        <a:pt x="892" y="331"/>
                        <a:pt x="877" y="273"/>
                        <a:pt x="807" y="262"/>
                      </a:cubicBezTo>
                      <a:cubicBezTo>
                        <a:pt x="771" y="256"/>
                        <a:pt x="734" y="255"/>
                        <a:pt x="698" y="251"/>
                      </a:cubicBezTo>
                      <a:cubicBezTo>
                        <a:pt x="687" y="244"/>
                        <a:pt x="673" y="239"/>
                        <a:pt x="665" y="229"/>
                      </a:cubicBezTo>
                      <a:cubicBezTo>
                        <a:pt x="658" y="220"/>
                        <a:pt x="659" y="207"/>
                        <a:pt x="654" y="197"/>
                      </a:cubicBezTo>
                      <a:cubicBezTo>
                        <a:pt x="636" y="161"/>
                        <a:pt x="632" y="164"/>
                        <a:pt x="600" y="142"/>
                      </a:cubicBezTo>
                      <a:cubicBezTo>
                        <a:pt x="571" y="55"/>
                        <a:pt x="431" y="21"/>
                        <a:pt x="349" y="0"/>
                      </a:cubicBezTo>
                      <a:cubicBezTo>
                        <a:pt x="277" y="7"/>
                        <a:pt x="229" y="13"/>
                        <a:pt x="163" y="33"/>
                      </a:cubicBezTo>
                      <a:cubicBezTo>
                        <a:pt x="141" y="40"/>
                        <a:pt x="98" y="55"/>
                        <a:pt x="98" y="55"/>
                      </a:cubicBezTo>
                      <a:cubicBezTo>
                        <a:pt x="83" y="77"/>
                        <a:pt x="54" y="120"/>
                        <a:pt x="54" y="120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0" name="Freeform 8"/>
                <p:cNvSpPr/>
                <p:nvPr/>
              </p:nvSpPr>
              <p:spPr>
                <a:xfrm>
                  <a:off x="5778000" y="2690640"/>
                  <a:ext cx="947160" cy="1685160"/>
                </a:xfrm>
                <a:custGeom>
                  <a:avLst/>
                  <a:gdLst/>
                  <a:ahLst/>
                  <a:rect l="l" t="t" r="r" b="b"/>
                  <a:pathLst>
                    <a:path w="847" h="1516">
                      <a:moveTo>
                        <a:pt x="98" y="436"/>
                      </a:moveTo>
                      <a:cubicBezTo>
                        <a:pt x="44" y="422"/>
                        <a:pt x="31" y="422"/>
                        <a:pt x="0" y="469"/>
                      </a:cubicBezTo>
                      <a:cubicBezTo>
                        <a:pt x="8" y="551"/>
                        <a:pt x="2" y="582"/>
                        <a:pt x="44" y="643"/>
                      </a:cubicBezTo>
                      <a:cubicBezTo>
                        <a:pt x="51" y="665"/>
                        <a:pt x="59" y="687"/>
                        <a:pt x="66" y="709"/>
                      </a:cubicBezTo>
                      <a:cubicBezTo>
                        <a:pt x="104" y="823"/>
                        <a:pt x="38" y="811"/>
                        <a:pt x="131" y="873"/>
                      </a:cubicBezTo>
                      <a:cubicBezTo>
                        <a:pt x="159" y="956"/>
                        <a:pt x="174" y="1040"/>
                        <a:pt x="251" y="1091"/>
                      </a:cubicBezTo>
                      <a:cubicBezTo>
                        <a:pt x="315" y="1184"/>
                        <a:pt x="227" y="1064"/>
                        <a:pt x="306" y="1145"/>
                      </a:cubicBezTo>
                      <a:cubicBezTo>
                        <a:pt x="378" y="1219"/>
                        <a:pt x="271" y="1141"/>
                        <a:pt x="360" y="1200"/>
                      </a:cubicBezTo>
                      <a:cubicBezTo>
                        <a:pt x="367" y="1211"/>
                        <a:pt x="373" y="1224"/>
                        <a:pt x="382" y="1233"/>
                      </a:cubicBezTo>
                      <a:cubicBezTo>
                        <a:pt x="391" y="1242"/>
                        <a:pt x="407" y="1244"/>
                        <a:pt x="415" y="1254"/>
                      </a:cubicBezTo>
                      <a:cubicBezTo>
                        <a:pt x="430" y="1272"/>
                        <a:pt x="446" y="1330"/>
                        <a:pt x="458" y="1353"/>
                      </a:cubicBezTo>
                      <a:cubicBezTo>
                        <a:pt x="464" y="1365"/>
                        <a:pt x="470" y="1377"/>
                        <a:pt x="480" y="1385"/>
                      </a:cubicBezTo>
                      <a:cubicBezTo>
                        <a:pt x="500" y="1402"/>
                        <a:pt x="546" y="1429"/>
                        <a:pt x="546" y="1429"/>
                      </a:cubicBezTo>
                      <a:cubicBezTo>
                        <a:pt x="568" y="1464"/>
                        <a:pt x="595" y="1477"/>
                        <a:pt x="633" y="1494"/>
                      </a:cubicBezTo>
                      <a:cubicBezTo>
                        <a:pt x="654" y="1503"/>
                        <a:pt x="698" y="1516"/>
                        <a:pt x="698" y="1516"/>
                      </a:cubicBezTo>
                      <a:cubicBezTo>
                        <a:pt x="704" y="1515"/>
                        <a:pt x="799" y="1506"/>
                        <a:pt x="807" y="1494"/>
                      </a:cubicBezTo>
                      <a:cubicBezTo>
                        <a:pt x="820" y="1475"/>
                        <a:pt x="822" y="1451"/>
                        <a:pt x="829" y="1429"/>
                      </a:cubicBezTo>
                      <a:cubicBezTo>
                        <a:pt x="833" y="1418"/>
                        <a:pt x="840" y="1396"/>
                        <a:pt x="840" y="1396"/>
                      </a:cubicBezTo>
                      <a:cubicBezTo>
                        <a:pt x="830" y="1261"/>
                        <a:pt x="847" y="1139"/>
                        <a:pt x="829" y="1003"/>
                      </a:cubicBezTo>
                      <a:cubicBezTo>
                        <a:pt x="824" y="963"/>
                        <a:pt x="798" y="902"/>
                        <a:pt x="786" y="862"/>
                      </a:cubicBezTo>
                      <a:cubicBezTo>
                        <a:pt x="768" y="686"/>
                        <a:pt x="758" y="684"/>
                        <a:pt x="775" y="458"/>
                      </a:cubicBezTo>
                      <a:cubicBezTo>
                        <a:pt x="777" y="432"/>
                        <a:pt x="789" y="407"/>
                        <a:pt x="796" y="382"/>
                      </a:cubicBezTo>
                      <a:cubicBezTo>
                        <a:pt x="803" y="360"/>
                        <a:pt x="818" y="316"/>
                        <a:pt x="818" y="316"/>
                      </a:cubicBezTo>
                      <a:cubicBezTo>
                        <a:pt x="810" y="216"/>
                        <a:pt x="804" y="166"/>
                        <a:pt x="775" y="76"/>
                      </a:cubicBezTo>
                      <a:cubicBezTo>
                        <a:pt x="768" y="54"/>
                        <a:pt x="709" y="54"/>
                        <a:pt x="709" y="54"/>
                      </a:cubicBezTo>
                      <a:cubicBezTo>
                        <a:pt x="702" y="43"/>
                        <a:pt x="698" y="29"/>
                        <a:pt x="687" y="22"/>
                      </a:cubicBezTo>
                      <a:cubicBezTo>
                        <a:pt x="668" y="10"/>
                        <a:pt x="622" y="0"/>
                        <a:pt x="622" y="0"/>
                      </a:cubicBezTo>
                      <a:cubicBezTo>
                        <a:pt x="584" y="6"/>
                        <a:pt x="551" y="2"/>
                        <a:pt x="524" y="33"/>
                      </a:cubicBezTo>
                      <a:cubicBezTo>
                        <a:pt x="482" y="81"/>
                        <a:pt x="461" y="143"/>
                        <a:pt x="426" y="196"/>
                      </a:cubicBezTo>
                      <a:cubicBezTo>
                        <a:pt x="397" y="239"/>
                        <a:pt x="421" y="253"/>
                        <a:pt x="360" y="273"/>
                      </a:cubicBezTo>
                      <a:cubicBezTo>
                        <a:pt x="317" y="209"/>
                        <a:pt x="293" y="229"/>
                        <a:pt x="218" y="240"/>
                      </a:cubicBezTo>
                      <a:cubicBezTo>
                        <a:pt x="166" y="276"/>
                        <a:pt x="189" y="288"/>
                        <a:pt x="164" y="338"/>
                      </a:cubicBezTo>
                      <a:cubicBezTo>
                        <a:pt x="146" y="375"/>
                        <a:pt x="142" y="371"/>
                        <a:pt x="109" y="393"/>
                      </a:cubicBezTo>
                      <a:cubicBezTo>
                        <a:pt x="84" y="429"/>
                        <a:pt x="78" y="416"/>
                        <a:pt x="98" y="436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1" name="Freeform 9"/>
                <p:cNvSpPr/>
                <p:nvPr/>
              </p:nvSpPr>
              <p:spPr>
                <a:xfrm>
                  <a:off x="5575680" y="2133720"/>
                  <a:ext cx="2361960" cy="2666880"/>
                </a:xfrm>
                <a:custGeom>
                  <a:avLst/>
                  <a:gdLst/>
                  <a:ahLst/>
                  <a:rect l="l" t="t" r="r" b="b"/>
                  <a:pathLst>
                    <a:path w="2381" h="2184">
                      <a:moveTo>
                        <a:pt x="36" y="417"/>
                      </a:moveTo>
                      <a:cubicBezTo>
                        <a:pt x="17" y="472"/>
                        <a:pt x="10" y="521"/>
                        <a:pt x="3" y="580"/>
                      </a:cubicBezTo>
                      <a:cubicBezTo>
                        <a:pt x="10" y="656"/>
                        <a:pt x="0" y="752"/>
                        <a:pt x="68" y="799"/>
                      </a:cubicBezTo>
                      <a:cubicBezTo>
                        <a:pt x="83" y="821"/>
                        <a:pt x="97" y="842"/>
                        <a:pt x="112" y="864"/>
                      </a:cubicBezTo>
                      <a:cubicBezTo>
                        <a:pt x="119" y="875"/>
                        <a:pt x="134" y="897"/>
                        <a:pt x="134" y="897"/>
                      </a:cubicBezTo>
                      <a:cubicBezTo>
                        <a:pt x="158" y="1089"/>
                        <a:pt x="213" y="1290"/>
                        <a:pt x="297" y="1464"/>
                      </a:cubicBezTo>
                      <a:cubicBezTo>
                        <a:pt x="336" y="1545"/>
                        <a:pt x="373" y="1631"/>
                        <a:pt x="450" y="1682"/>
                      </a:cubicBezTo>
                      <a:cubicBezTo>
                        <a:pt x="501" y="1759"/>
                        <a:pt x="472" y="1734"/>
                        <a:pt x="527" y="1769"/>
                      </a:cubicBezTo>
                      <a:cubicBezTo>
                        <a:pt x="551" y="1849"/>
                        <a:pt x="515" y="1756"/>
                        <a:pt x="570" y="1824"/>
                      </a:cubicBezTo>
                      <a:cubicBezTo>
                        <a:pt x="631" y="1900"/>
                        <a:pt x="519" y="1816"/>
                        <a:pt x="614" y="1879"/>
                      </a:cubicBezTo>
                      <a:cubicBezTo>
                        <a:pt x="636" y="1942"/>
                        <a:pt x="608" y="1884"/>
                        <a:pt x="657" y="1933"/>
                      </a:cubicBezTo>
                      <a:cubicBezTo>
                        <a:pt x="666" y="1942"/>
                        <a:pt x="669" y="1957"/>
                        <a:pt x="679" y="1966"/>
                      </a:cubicBezTo>
                      <a:cubicBezTo>
                        <a:pt x="797" y="2068"/>
                        <a:pt x="702" y="1978"/>
                        <a:pt x="777" y="2020"/>
                      </a:cubicBezTo>
                      <a:cubicBezTo>
                        <a:pt x="800" y="2033"/>
                        <a:pt x="824" y="2045"/>
                        <a:pt x="843" y="2064"/>
                      </a:cubicBezTo>
                      <a:cubicBezTo>
                        <a:pt x="854" y="2075"/>
                        <a:pt x="862" y="2089"/>
                        <a:pt x="876" y="2097"/>
                      </a:cubicBezTo>
                      <a:cubicBezTo>
                        <a:pt x="896" y="2108"/>
                        <a:pt x="919" y="2112"/>
                        <a:pt x="941" y="2119"/>
                      </a:cubicBezTo>
                      <a:cubicBezTo>
                        <a:pt x="974" y="2130"/>
                        <a:pt x="1006" y="2140"/>
                        <a:pt x="1039" y="2151"/>
                      </a:cubicBezTo>
                      <a:cubicBezTo>
                        <a:pt x="1050" y="2155"/>
                        <a:pt x="1061" y="2158"/>
                        <a:pt x="1072" y="2162"/>
                      </a:cubicBezTo>
                      <a:cubicBezTo>
                        <a:pt x="1083" y="2166"/>
                        <a:pt x="1105" y="2173"/>
                        <a:pt x="1105" y="2173"/>
                      </a:cubicBezTo>
                      <a:cubicBezTo>
                        <a:pt x="1174" y="2169"/>
                        <a:pt x="1251" y="2184"/>
                        <a:pt x="1312" y="2151"/>
                      </a:cubicBezTo>
                      <a:cubicBezTo>
                        <a:pt x="1315" y="2149"/>
                        <a:pt x="1392" y="2098"/>
                        <a:pt x="1410" y="2086"/>
                      </a:cubicBezTo>
                      <a:cubicBezTo>
                        <a:pt x="1421" y="2079"/>
                        <a:pt x="1443" y="2064"/>
                        <a:pt x="1443" y="2064"/>
                      </a:cubicBezTo>
                      <a:cubicBezTo>
                        <a:pt x="1450" y="2053"/>
                        <a:pt x="1456" y="2040"/>
                        <a:pt x="1465" y="2031"/>
                      </a:cubicBezTo>
                      <a:cubicBezTo>
                        <a:pt x="1474" y="2022"/>
                        <a:pt x="1490" y="2020"/>
                        <a:pt x="1497" y="2009"/>
                      </a:cubicBezTo>
                      <a:cubicBezTo>
                        <a:pt x="1519" y="1973"/>
                        <a:pt x="1509" y="1939"/>
                        <a:pt x="1541" y="1911"/>
                      </a:cubicBezTo>
                      <a:cubicBezTo>
                        <a:pt x="1561" y="1894"/>
                        <a:pt x="1607" y="1868"/>
                        <a:pt x="1607" y="1868"/>
                      </a:cubicBezTo>
                      <a:cubicBezTo>
                        <a:pt x="1655" y="1794"/>
                        <a:pt x="1702" y="1719"/>
                        <a:pt x="1737" y="1639"/>
                      </a:cubicBezTo>
                      <a:cubicBezTo>
                        <a:pt x="1774" y="1554"/>
                        <a:pt x="1774" y="1442"/>
                        <a:pt x="1857" y="1388"/>
                      </a:cubicBezTo>
                      <a:cubicBezTo>
                        <a:pt x="1881" y="1315"/>
                        <a:pt x="1848" y="1393"/>
                        <a:pt x="1901" y="1333"/>
                      </a:cubicBezTo>
                      <a:cubicBezTo>
                        <a:pt x="1928" y="1302"/>
                        <a:pt x="1952" y="1268"/>
                        <a:pt x="1977" y="1235"/>
                      </a:cubicBezTo>
                      <a:cubicBezTo>
                        <a:pt x="1993" y="1214"/>
                        <a:pt x="2006" y="1191"/>
                        <a:pt x="2021" y="1169"/>
                      </a:cubicBezTo>
                      <a:cubicBezTo>
                        <a:pt x="2028" y="1158"/>
                        <a:pt x="2043" y="1137"/>
                        <a:pt x="2043" y="1137"/>
                      </a:cubicBezTo>
                      <a:cubicBezTo>
                        <a:pt x="2069" y="1059"/>
                        <a:pt x="2052" y="1090"/>
                        <a:pt x="2087" y="1039"/>
                      </a:cubicBezTo>
                      <a:cubicBezTo>
                        <a:pt x="2118" y="938"/>
                        <a:pt x="2071" y="1079"/>
                        <a:pt x="2119" y="973"/>
                      </a:cubicBezTo>
                      <a:cubicBezTo>
                        <a:pt x="2128" y="952"/>
                        <a:pt x="2141" y="908"/>
                        <a:pt x="2141" y="908"/>
                      </a:cubicBezTo>
                      <a:cubicBezTo>
                        <a:pt x="2145" y="875"/>
                        <a:pt x="2136" y="838"/>
                        <a:pt x="2152" y="809"/>
                      </a:cubicBezTo>
                      <a:cubicBezTo>
                        <a:pt x="2164" y="786"/>
                        <a:pt x="2217" y="766"/>
                        <a:pt x="2217" y="766"/>
                      </a:cubicBezTo>
                      <a:cubicBezTo>
                        <a:pt x="2232" y="744"/>
                        <a:pt x="2246" y="722"/>
                        <a:pt x="2261" y="700"/>
                      </a:cubicBezTo>
                      <a:cubicBezTo>
                        <a:pt x="2268" y="689"/>
                        <a:pt x="2283" y="668"/>
                        <a:pt x="2283" y="668"/>
                      </a:cubicBezTo>
                      <a:cubicBezTo>
                        <a:pt x="2309" y="589"/>
                        <a:pt x="2292" y="621"/>
                        <a:pt x="2327" y="569"/>
                      </a:cubicBezTo>
                      <a:cubicBezTo>
                        <a:pt x="2340" y="529"/>
                        <a:pt x="2347" y="507"/>
                        <a:pt x="2359" y="471"/>
                      </a:cubicBezTo>
                      <a:cubicBezTo>
                        <a:pt x="2363" y="460"/>
                        <a:pt x="2366" y="450"/>
                        <a:pt x="2370" y="439"/>
                      </a:cubicBezTo>
                      <a:cubicBezTo>
                        <a:pt x="2374" y="428"/>
                        <a:pt x="2381" y="406"/>
                        <a:pt x="2381" y="406"/>
                      </a:cubicBezTo>
                      <a:cubicBezTo>
                        <a:pt x="2368" y="306"/>
                        <a:pt x="2337" y="197"/>
                        <a:pt x="2305" y="100"/>
                      </a:cubicBezTo>
                      <a:cubicBezTo>
                        <a:pt x="2219" y="228"/>
                        <a:pt x="2334" y="351"/>
                        <a:pt x="2185" y="449"/>
                      </a:cubicBezTo>
                      <a:cubicBezTo>
                        <a:pt x="2126" y="537"/>
                        <a:pt x="2203" y="431"/>
                        <a:pt x="2130" y="504"/>
                      </a:cubicBezTo>
                      <a:cubicBezTo>
                        <a:pt x="2080" y="554"/>
                        <a:pt x="2139" y="526"/>
                        <a:pt x="2076" y="548"/>
                      </a:cubicBezTo>
                      <a:cubicBezTo>
                        <a:pt x="2025" y="624"/>
                        <a:pt x="2054" y="598"/>
                        <a:pt x="1999" y="635"/>
                      </a:cubicBezTo>
                      <a:cubicBezTo>
                        <a:pt x="1975" y="706"/>
                        <a:pt x="1921" y="769"/>
                        <a:pt x="1879" y="831"/>
                      </a:cubicBezTo>
                      <a:cubicBezTo>
                        <a:pt x="1872" y="841"/>
                        <a:pt x="1902" y="825"/>
                        <a:pt x="1912" y="820"/>
                      </a:cubicBezTo>
                      <a:cubicBezTo>
                        <a:pt x="1924" y="814"/>
                        <a:pt x="1934" y="806"/>
                        <a:pt x="1945" y="799"/>
                      </a:cubicBezTo>
                      <a:cubicBezTo>
                        <a:pt x="1974" y="802"/>
                        <a:pt x="2005" y="797"/>
                        <a:pt x="2032" y="809"/>
                      </a:cubicBezTo>
                      <a:cubicBezTo>
                        <a:pt x="2052" y="818"/>
                        <a:pt x="2041" y="866"/>
                        <a:pt x="2032" y="875"/>
                      </a:cubicBezTo>
                      <a:cubicBezTo>
                        <a:pt x="2024" y="883"/>
                        <a:pt x="2010" y="882"/>
                        <a:pt x="1999" y="886"/>
                      </a:cubicBezTo>
                      <a:cubicBezTo>
                        <a:pt x="1962" y="941"/>
                        <a:pt x="1902" y="958"/>
                        <a:pt x="1847" y="995"/>
                      </a:cubicBezTo>
                      <a:cubicBezTo>
                        <a:pt x="1836" y="1002"/>
                        <a:pt x="1825" y="1010"/>
                        <a:pt x="1814" y="1017"/>
                      </a:cubicBezTo>
                      <a:cubicBezTo>
                        <a:pt x="1803" y="1024"/>
                        <a:pt x="1781" y="1039"/>
                        <a:pt x="1781" y="1039"/>
                      </a:cubicBezTo>
                      <a:cubicBezTo>
                        <a:pt x="1774" y="1050"/>
                        <a:pt x="1768" y="1062"/>
                        <a:pt x="1759" y="1071"/>
                      </a:cubicBezTo>
                      <a:cubicBezTo>
                        <a:pt x="1750" y="1080"/>
                        <a:pt x="1735" y="1083"/>
                        <a:pt x="1727" y="1093"/>
                      </a:cubicBezTo>
                      <a:cubicBezTo>
                        <a:pt x="1720" y="1102"/>
                        <a:pt x="1721" y="1116"/>
                        <a:pt x="1716" y="1126"/>
                      </a:cubicBezTo>
                      <a:cubicBezTo>
                        <a:pt x="1687" y="1183"/>
                        <a:pt x="1661" y="1242"/>
                        <a:pt x="1607" y="1279"/>
                      </a:cubicBezTo>
                      <a:cubicBezTo>
                        <a:pt x="1589" y="1306"/>
                        <a:pt x="1561" y="1347"/>
                        <a:pt x="1541" y="1377"/>
                      </a:cubicBezTo>
                      <a:cubicBezTo>
                        <a:pt x="1534" y="1388"/>
                        <a:pt x="1519" y="1409"/>
                        <a:pt x="1519" y="1409"/>
                      </a:cubicBezTo>
                      <a:cubicBezTo>
                        <a:pt x="1480" y="1526"/>
                        <a:pt x="1541" y="1352"/>
                        <a:pt x="1487" y="1475"/>
                      </a:cubicBezTo>
                      <a:cubicBezTo>
                        <a:pt x="1454" y="1549"/>
                        <a:pt x="1451" y="1613"/>
                        <a:pt x="1377" y="1660"/>
                      </a:cubicBezTo>
                      <a:cubicBezTo>
                        <a:pt x="1358" y="1723"/>
                        <a:pt x="1383" y="1666"/>
                        <a:pt x="1334" y="1715"/>
                      </a:cubicBezTo>
                      <a:cubicBezTo>
                        <a:pt x="1325" y="1724"/>
                        <a:pt x="1323" y="1741"/>
                        <a:pt x="1312" y="1748"/>
                      </a:cubicBezTo>
                      <a:cubicBezTo>
                        <a:pt x="1293" y="1760"/>
                        <a:pt x="1247" y="1769"/>
                        <a:pt x="1247" y="1769"/>
                      </a:cubicBezTo>
                      <a:cubicBezTo>
                        <a:pt x="1236" y="1766"/>
                        <a:pt x="1222" y="1767"/>
                        <a:pt x="1214" y="1759"/>
                      </a:cubicBezTo>
                      <a:cubicBezTo>
                        <a:pt x="1206" y="1751"/>
                        <a:pt x="1204" y="1738"/>
                        <a:pt x="1203" y="1726"/>
                      </a:cubicBezTo>
                      <a:cubicBezTo>
                        <a:pt x="1196" y="1624"/>
                        <a:pt x="1201" y="1522"/>
                        <a:pt x="1192" y="1420"/>
                      </a:cubicBezTo>
                      <a:cubicBezTo>
                        <a:pt x="1186" y="1353"/>
                        <a:pt x="1142" y="1280"/>
                        <a:pt x="1127" y="1213"/>
                      </a:cubicBezTo>
                      <a:cubicBezTo>
                        <a:pt x="1142" y="1064"/>
                        <a:pt x="1165" y="915"/>
                        <a:pt x="1181" y="766"/>
                      </a:cubicBezTo>
                      <a:cubicBezTo>
                        <a:pt x="1203" y="553"/>
                        <a:pt x="1183" y="629"/>
                        <a:pt x="1225" y="504"/>
                      </a:cubicBezTo>
                      <a:cubicBezTo>
                        <a:pt x="1233" y="479"/>
                        <a:pt x="1290" y="460"/>
                        <a:pt x="1290" y="460"/>
                      </a:cubicBezTo>
                      <a:cubicBezTo>
                        <a:pt x="1243" y="444"/>
                        <a:pt x="1239" y="465"/>
                        <a:pt x="1192" y="449"/>
                      </a:cubicBezTo>
                      <a:cubicBezTo>
                        <a:pt x="1156" y="308"/>
                        <a:pt x="1234" y="147"/>
                        <a:pt x="1279" y="13"/>
                      </a:cubicBezTo>
                      <a:cubicBezTo>
                        <a:pt x="1283" y="0"/>
                        <a:pt x="1264" y="35"/>
                        <a:pt x="1257" y="46"/>
                      </a:cubicBezTo>
                      <a:cubicBezTo>
                        <a:pt x="1242" y="96"/>
                        <a:pt x="1210" y="134"/>
                        <a:pt x="1181" y="177"/>
                      </a:cubicBezTo>
                      <a:cubicBezTo>
                        <a:pt x="1174" y="188"/>
                        <a:pt x="1166" y="198"/>
                        <a:pt x="1159" y="209"/>
                      </a:cubicBezTo>
                      <a:cubicBezTo>
                        <a:pt x="1152" y="220"/>
                        <a:pt x="1137" y="242"/>
                        <a:pt x="1137" y="242"/>
                      </a:cubicBezTo>
                      <a:cubicBezTo>
                        <a:pt x="1123" y="289"/>
                        <a:pt x="1099" y="326"/>
                        <a:pt x="1083" y="373"/>
                      </a:cubicBezTo>
                      <a:cubicBezTo>
                        <a:pt x="1079" y="384"/>
                        <a:pt x="1076" y="395"/>
                        <a:pt x="1072" y="406"/>
                      </a:cubicBezTo>
                      <a:cubicBezTo>
                        <a:pt x="1068" y="417"/>
                        <a:pt x="1061" y="439"/>
                        <a:pt x="1061" y="439"/>
                      </a:cubicBezTo>
                      <a:cubicBezTo>
                        <a:pt x="1052" y="323"/>
                        <a:pt x="1042" y="150"/>
                        <a:pt x="930" y="79"/>
                      </a:cubicBezTo>
                      <a:cubicBezTo>
                        <a:pt x="926" y="66"/>
                        <a:pt x="917" y="16"/>
                        <a:pt x="887" y="24"/>
                      </a:cubicBezTo>
                      <a:cubicBezTo>
                        <a:pt x="876" y="27"/>
                        <a:pt x="880" y="46"/>
                        <a:pt x="876" y="57"/>
                      </a:cubicBezTo>
                      <a:cubicBezTo>
                        <a:pt x="880" y="68"/>
                        <a:pt x="882" y="79"/>
                        <a:pt x="887" y="89"/>
                      </a:cubicBezTo>
                      <a:cubicBezTo>
                        <a:pt x="893" y="101"/>
                        <a:pt x="903" y="110"/>
                        <a:pt x="908" y="122"/>
                      </a:cubicBezTo>
                      <a:cubicBezTo>
                        <a:pt x="932" y="177"/>
                        <a:pt x="926" y="181"/>
                        <a:pt x="941" y="231"/>
                      </a:cubicBezTo>
                      <a:cubicBezTo>
                        <a:pt x="964" y="308"/>
                        <a:pt x="993" y="383"/>
                        <a:pt x="1017" y="460"/>
                      </a:cubicBezTo>
                      <a:cubicBezTo>
                        <a:pt x="1018" y="463"/>
                        <a:pt x="945" y="440"/>
                        <a:pt x="941" y="439"/>
                      </a:cubicBezTo>
                      <a:cubicBezTo>
                        <a:pt x="930" y="442"/>
                        <a:pt x="908" y="438"/>
                        <a:pt x="908" y="449"/>
                      </a:cubicBezTo>
                      <a:cubicBezTo>
                        <a:pt x="908" y="462"/>
                        <a:pt x="932" y="461"/>
                        <a:pt x="941" y="471"/>
                      </a:cubicBezTo>
                      <a:cubicBezTo>
                        <a:pt x="980" y="515"/>
                        <a:pt x="1020" y="578"/>
                        <a:pt x="1039" y="635"/>
                      </a:cubicBezTo>
                      <a:cubicBezTo>
                        <a:pt x="1029" y="701"/>
                        <a:pt x="1016" y="765"/>
                        <a:pt x="1007" y="831"/>
                      </a:cubicBezTo>
                      <a:cubicBezTo>
                        <a:pt x="1010" y="955"/>
                        <a:pt x="1011" y="1078"/>
                        <a:pt x="1017" y="1202"/>
                      </a:cubicBezTo>
                      <a:cubicBezTo>
                        <a:pt x="1018" y="1216"/>
                        <a:pt x="1034" y="1283"/>
                        <a:pt x="1039" y="1300"/>
                      </a:cubicBezTo>
                      <a:cubicBezTo>
                        <a:pt x="1046" y="1322"/>
                        <a:pt x="1054" y="1344"/>
                        <a:pt x="1061" y="1366"/>
                      </a:cubicBezTo>
                      <a:cubicBezTo>
                        <a:pt x="1065" y="1377"/>
                        <a:pt x="1072" y="1399"/>
                        <a:pt x="1072" y="1399"/>
                      </a:cubicBezTo>
                      <a:cubicBezTo>
                        <a:pt x="1064" y="1606"/>
                        <a:pt x="1135" y="1656"/>
                        <a:pt x="996" y="1704"/>
                      </a:cubicBezTo>
                      <a:cubicBezTo>
                        <a:pt x="956" y="1696"/>
                        <a:pt x="902" y="1691"/>
                        <a:pt x="865" y="1671"/>
                      </a:cubicBezTo>
                      <a:cubicBezTo>
                        <a:pt x="842" y="1658"/>
                        <a:pt x="799" y="1628"/>
                        <a:pt x="799" y="1628"/>
                      </a:cubicBezTo>
                      <a:cubicBezTo>
                        <a:pt x="795" y="1621"/>
                        <a:pt x="727" y="1507"/>
                        <a:pt x="712" y="1497"/>
                      </a:cubicBezTo>
                      <a:cubicBezTo>
                        <a:pt x="690" y="1482"/>
                        <a:pt x="672" y="1461"/>
                        <a:pt x="647" y="1453"/>
                      </a:cubicBezTo>
                      <a:cubicBezTo>
                        <a:pt x="636" y="1449"/>
                        <a:pt x="624" y="1447"/>
                        <a:pt x="614" y="1442"/>
                      </a:cubicBezTo>
                      <a:cubicBezTo>
                        <a:pt x="592" y="1431"/>
                        <a:pt x="570" y="1421"/>
                        <a:pt x="548" y="1409"/>
                      </a:cubicBezTo>
                      <a:cubicBezTo>
                        <a:pt x="525" y="1396"/>
                        <a:pt x="483" y="1366"/>
                        <a:pt x="483" y="1366"/>
                      </a:cubicBezTo>
                      <a:cubicBezTo>
                        <a:pt x="476" y="1355"/>
                        <a:pt x="469" y="1343"/>
                        <a:pt x="461" y="1333"/>
                      </a:cubicBezTo>
                      <a:cubicBezTo>
                        <a:pt x="451" y="1321"/>
                        <a:pt x="437" y="1313"/>
                        <a:pt x="428" y="1300"/>
                      </a:cubicBezTo>
                      <a:cubicBezTo>
                        <a:pt x="422" y="1291"/>
                        <a:pt x="422" y="1278"/>
                        <a:pt x="417" y="1268"/>
                      </a:cubicBezTo>
                      <a:cubicBezTo>
                        <a:pt x="386" y="1211"/>
                        <a:pt x="344" y="1159"/>
                        <a:pt x="308" y="1104"/>
                      </a:cubicBezTo>
                      <a:cubicBezTo>
                        <a:pt x="276" y="1054"/>
                        <a:pt x="289" y="1079"/>
                        <a:pt x="265" y="1006"/>
                      </a:cubicBezTo>
                      <a:cubicBezTo>
                        <a:pt x="261" y="995"/>
                        <a:pt x="254" y="973"/>
                        <a:pt x="254" y="973"/>
                      </a:cubicBezTo>
                      <a:cubicBezTo>
                        <a:pt x="265" y="884"/>
                        <a:pt x="249" y="852"/>
                        <a:pt x="341" y="875"/>
                      </a:cubicBezTo>
                      <a:cubicBezTo>
                        <a:pt x="352" y="882"/>
                        <a:pt x="365" y="888"/>
                        <a:pt x="374" y="897"/>
                      </a:cubicBezTo>
                      <a:cubicBezTo>
                        <a:pt x="383" y="906"/>
                        <a:pt x="396" y="942"/>
                        <a:pt x="396" y="929"/>
                      </a:cubicBezTo>
                      <a:cubicBezTo>
                        <a:pt x="396" y="906"/>
                        <a:pt x="381" y="886"/>
                        <a:pt x="374" y="864"/>
                      </a:cubicBezTo>
                      <a:cubicBezTo>
                        <a:pt x="356" y="810"/>
                        <a:pt x="357" y="775"/>
                        <a:pt x="297" y="755"/>
                      </a:cubicBezTo>
                      <a:cubicBezTo>
                        <a:pt x="275" y="740"/>
                        <a:pt x="254" y="726"/>
                        <a:pt x="232" y="711"/>
                      </a:cubicBezTo>
                      <a:cubicBezTo>
                        <a:pt x="221" y="704"/>
                        <a:pt x="199" y="689"/>
                        <a:pt x="199" y="689"/>
                      </a:cubicBezTo>
                      <a:cubicBezTo>
                        <a:pt x="171" y="607"/>
                        <a:pt x="212" y="707"/>
                        <a:pt x="156" y="635"/>
                      </a:cubicBezTo>
                      <a:cubicBezTo>
                        <a:pt x="149" y="626"/>
                        <a:pt x="150" y="612"/>
                        <a:pt x="145" y="602"/>
                      </a:cubicBezTo>
                      <a:cubicBezTo>
                        <a:pt x="139" y="590"/>
                        <a:pt x="128" y="581"/>
                        <a:pt x="123" y="569"/>
                      </a:cubicBezTo>
                      <a:cubicBezTo>
                        <a:pt x="114" y="548"/>
                        <a:pt x="101" y="504"/>
                        <a:pt x="101" y="504"/>
                      </a:cubicBezTo>
                      <a:cubicBezTo>
                        <a:pt x="97" y="460"/>
                        <a:pt x="100" y="416"/>
                        <a:pt x="90" y="373"/>
                      </a:cubicBezTo>
                      <a:cubicBezTo>
                        <a:pt x="87" y="362"/>
                        <a:pt x="86" y="397"/>
                        <a:pt x="79" y="406"/>
                      </a:cubicBezTo>
                      <a:cubicBezTo>
                        <a:pt x="52" y="440"/>
                        <a:pt x="52" y="433"/>
                        <a:pt x="36" y="417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2" name="Freeform 10"/>
                <p:cNvSpPr/>
                <p:nvPr/>
              </p:nvSpPr>
              <p:spPr>
                <a:xfrm>
                  <a:off x="5951520" y="2506320"/>
                  <a:ext cx="573480" cy="666720"/>
                </a:xfrm>
                <a:custGeom>
                  <a:avLst/>
                  <a:gdLst/>
                  <a:ahLst/>
                  <a:rect l="l" t="t" r="r" b="b"/>
                  <a:pathLst>
                    <a:path w="513" h="600">
                      <a:moveTo>
                        <a:pt x="0" y="0"/>
                      </a:moveTo>
                      <a:cubicBezTo>
                        <a:pt x="4" y="55"/>
                        <a:pt x="3" y="110"/>
                        <a:pt x="11" y="164"/>
                      </a:cubicBezTo>
                      <a:cubicBezTo>
                        <a:pt x="16" y="198"/>
                        <a:pt x="33" y="229"/>
                        <a:pt x="44" y="262"/>
                      </a:cubicBezTo>
                      <a:cubicBezTo>
                        <a:pt x="72" y="345"/>
                        <a:pt x="87" y="429"/>
                        <a:pt x="164" y="480"/>
                      </a:cubicBezTo>
                      <a:cubicBezTo>
                        <a:pt x="171" y="491"/>
                        <a:pt x="177" y="504"/>
                        <a:pt x="186" y="513"/>
                      </a:cubicBezTo>
                      <a:cubicBezTo>
                        <a:pt x="195" y="522"/>
                        <a:pt x="210" y="525"/>
                        <a:pt x="218" y="535"/>
                      </a:cubicBezTo>
                      <a:cubicBezTo>
                        <a:pt x="225" y="544"/>
                        <a:pt x="224" y="557"/>
                        <a:pt x="229" y="567"/>
                      </a:cubicBezTo>
                      <a:cubicBezTo>
                        <a:pt x="235" y="579"/>
                        <a:pt x="244" y="589"/>
                        <a:pt x="251" y="600"/>
                      </a:cubicBezTo>
                      <a:cubicBezTo>
                        <a:pt x="314" y="506"/>
                        <a:pt x="286" y="374"/>
                        <a:pt x="338" y="295"/>
                      </a:cubicBezTo>
                      <a:cubicBezTo>
                        <a:pt x="371" y="246"/>
                        <a:pt x="386" y="205"/>
                        <a:pt x="448" y="185"/>
                      </a:cubicBezTo>
                      <a:cubicBezTo>
                        <a:pt x="470" y="178"/>
                        <a:pt x="513" y="164"/>
                        <a:pt x="513" y="164"/>
                      </a:cubicBezTo>
                      <a:cubicBezTo>
                        <a:pt x="467" y="149"/>
                        <a:pt x="485" y="148"/>
                        <a:pt x="426" y="164"/>
                      </a:cubicBezTo>
                      <a:cubicBezTo>
                        <a:pt x="404" y="170"/>
                        <a:pt x="360" y="185"/>
                        <a:pt x="360" y="185"/>
                      </a:cubicBezTo>
                      <a:cubicBezTo>
                        <a:pt x="331" y="229"/>
                        <a:pt x="302" y="273"/>
                        <a:pt x="273" y="316"/>
                      </a:cubicBezTo>
                      <a:cubicBezTo>
                        <a:pt x="266" y="327"/>
                        <a:pt x="258" y="338"/>
                        <a:pt x="251" y="349"/>
                      </a:cubicBezTo>
                      <a:cubicBezTo>
                        <a:pt x="244" y="360"/>
                        <a:pt x="229" y="382"/>
                        <a:pt x="229" y="382"/>
                      </a:cubicBezTo>
                      <a:cubicBezTo>
                        <a:pt x="209" y="318"/>
                        <a:pt x="201" y="268"/>
                        <a:pt x="142" y="229"/>
                      </a:cubicBezTo>
                      <a:cubicBezTo>
                        <a:pt x="120" y="163"/>
                        <a:pt x="149" y="226"/>
                        <a:pt x="98" y="175"/>
                      </a:cubicBezTo>
                      <a:cubicBezTo>
                        <a:pt x="22" y="99"/>
                        <a:pt x="137" y="182"/>
                        <a:pt x="44" y="120"/>
                      </a:cubicBezTo>
                      <a:cubicBezTo>
                        <a:pt x="16" y="78"/>
                        <a:pt x="10" y="50"/>
                        <a:pt x="0" y="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" name="Freeform 11"/>
                <p:cNvSpPr/>
                <p:nvPr/>
              </p:nvSpPr>
              <p:spPr>
                <a:xfrm>
                  <a:off x="6813720" y="2247120"/>
                  <a:ext cx="729000" cy="844920"/>
                </a:xfrm>
                <a:custGeom>
                  <a:avLst/>
                  <a:gdLst/>
                  <a:ahLst/>
                  <a:rect l="l" t="t" r="r" b="b"/>
                  <a:pathLst>
                    <a:path w="652" h="760">
                      <a:moveTo>
                        <a:pt x="645" y="6"/>
                      </a:moveTo>
                      <a:cubicBezTo>
                        <a:pt x="609" y="114"/>
                        <a:pt x="584" y="226"/>
                        <a:pt x="547" y="333"/>
                      </a:cubicBezTo>
                      <a:cubicBezTo>
                        <a:pt x="541" y="450"/>
                        <a:pt x="563" y="625"/>
                        <a:pt x="449" y="704"/>
                      </a:cubicBezTo>
                      <a:cubicBezTo>
                        <a:pt x="442" y="715"/>
                        <a:pt x="437" y="729"/>
                        <a:pt x="427" y="737"/>
                      </a:cubicBezTo>
                      <a:cubicBezTo>
                        <a:pt x="418" y="744"/>
                        <a:pt x="394" y="760"/>
                        <a:pt x="394" y="748"/>
                      </a:cubicBezTo>
                      <a:cubicBezTo>
                        <a:pt x="394" y="735"/>
                        <a:pt x="416" y="733"/>
                        <a:pt x="427" y="726"/>
                      </a:cubicBezTo>
                      <a:cubicBezTo>
                        <a:pt x="431" y="715"/>
                        <a:pt x="432" y="703"/>
                        <a:pt x="438" y="693"/>
                      </a:cubicBezTo>
                      <a:cubicBezTo>
                        <a:pt x="451" y="670"/>
                        <a:pt x="481" y="628"/>
                        <a:pt x="481" y="628"/>
                      </a:cubicBezTo>
                      <a:cubicBezTo>
                        <a:pt x="477" y="588"/>
                        <a:pt x="478" y="547"/>
                        <a:pt x="470" y="508"/>
                      </a:cubicBezTo>
                      <a:cubicBezTo>
                        <a:pt x="461" y="464"/>
                        <a:pt x="445" y="480"/>
                        <a:pt x="416" y="464"/>
                      </a:cubicBezTo>
                      <a:cubicBezTo>
                        <a:pt x="345" y="425"/>
                        <a:pt x="318" y="396"/>
                        <a:pt x="241" y="377"/>
                      </a:cubicBezTo>
                      <a:cubicBezTo>
                        <a:pt x="168" y="381"/>
                        <a:pt x="96" y="393"/>
                        <a:pt x="23" y="388"/>
                      </a:cubicBezTo>
                      <a:cubicBezTo>
                        <a:pt x="0" y="386"/>
                        <a:pt x="67" y="373"/>
                        <a:pt x="89" y="366"/>
                      </a:cubicBezTo>
                      <a:cubicBezTo>
                        <a:pt x="111" y="359"/>
                        <a:pt x="154" y="344"/>
                        <a:pt x="154" y="344"/>
                      </a:cubicBezTo>
                      <a:cubicBezTo>
                        <a:pt x="279" y="352"/>
                        <a:pt x="351" y="367"/>
                        <a:pt x="470" y="355"/>
                      </a:cubicBezTo>
                      <a:cubicBezTo>
                        <a:pt x="481" y="348"/>
                        <a:pt x="496" y="344"/>
                        <a:pt x="503" y="333"/>
                      </a:cubicBezTo>
                      <a:cubicBezTo>
                        <a:pt x="504" y="332"/>
                        <a:pt x="530" y="252"/>
                        <a:pt x="536" y="235"/>
                      </a:cubicBezTo>
                      <a:cubicBezTo>
                        <a:pt x="540" y="222"/>
                        <a:pt x="553" y="214"/>
                        <a:pt x="558" y="202"/>
                      </a:cubicBezTo>
                      <a:cubicBezTo>
                        <a:pt x="566" y="184"/>
                        <a:pt x="582" y="130"/>
                        <a:pt x="590" y="104"/>
                      </a:cubicBezTo>
                      <a:cubicBezTo>
                        <a:pt x="622" y="0"/>
                        <a:pt x="599" y="142"/>
                        <a:pt x="645" y="50"/>
                      </a:cubicBezTo>
                      <a:cubicBezTo>
                        <a:pt x="652" y="37"/>
                        <a:pt x="645" y="21"/>
                        <a:pt x="645" y="6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4" name="Line 12"/>
                <p:cNvSpPr/>
                <p:nvPr/>
              </p:nvSpPr>
              <p:spPr>
                <a:xfrm>
                  <a:off x="5897520" y="2826360"/>
                  <a:ext cx="214560" cy="373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5" name="Line 13"/>
                <p:cNvSpPr/>
                <p:nvPr/>
              </p:nvSpPr>
              <p:spPr>
                <a:xfrm flipH="1">
                  <a:off x="7293240" y="2666160"/>
                  <a:ext cx="268560" cy="533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26" name="Line 14"/>
              <p:cNvSpPr/>
              <p:nvPr/>
            </p:nvSpPr>
            <p:spPr>
              <a:xfrm flipV="1">
                <a:off x="5194440" y="3047400"/>
                <a:ext cx="3049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" name="Line 15"/>
              <p:cNvSpPr/>
              <p:nvPr/>
            </p:nvSpPr>
            <p:spPr>
              <a:xfrm flipH="1">
                <a:off x="6184800" y="2438280"/>
                <a:ext cx="1522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" name="Line 16"/>
              <p:cNvSpPr/>
              <p:nvPr/>
            </p:nvSpPr>
            <p:spPr>
              <a:xfrm>
                <a:off x="7099560" y="2209680"/>
                <a:ext cx="2286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" name="Line 17"/>
              <p:cNvSpPr/>
              <p:nvPr/>
            </p:nvSpPr>
            <p:spPr>
              <a:xfrm flipH="1" flipV="1">
                <a:off x="8013960" y="281880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0" name="Text Box 18"/>
            <p:cNvSpPr/>
            <p:nvPr/>
          </p:nvSpPr>
          <p:spPr>
            <a:xfrm>
              <a:off x="324000" y="2895840"/>
              <a:ext cx="441972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atria then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open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allow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into the ventricle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1" name="Text Box 19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W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4" name="Group 5"/>
          <p:cNvGrpSpPr/>
          <p:nvPr/>
        </p:nvGrpSpPr>
        <p:grpSpPr>
          <a:xfrm>
            <a:off x="900000" y="1628640"/>
            <a:ext cx="7389720" cy="4409640"/>
            <a:chOff x="900000" y="1628640"/>
            <a:chExt cx="7389720" cy="4409640"/>
          </a:xfrm>
        </p:grpSpPr>
        <p:grpSp>
          <p:nvGrpSpPr>
            <p:cNvPr id="235" name="Group 6"/>
            <p:cNvGrpSpPr/>
            <p:nvPr/>
          </p:nvGrpSpPr>
          <p:grpSpPr>
            <a:xfrm>
              <a:off x="900000" y="1628640"/>
              <a:ext cx="2514600" cy="3047760"/>
              <a:chOff x="900000" y="1628640"/>
              <a:chExt cx="2514600" cy="3047760"/>
            </a:xfrm>
          </p:grpSpPr>
          <p:sp>
            <p:nvSpPr>
              <p:cNvPr id="236" name="Freeform 7"/>
              <p:cNvSpPr/>
              <p:nvPr/>
            </p:nvSpPr>
            <p:spPr>
              <a:xfrm>
                <a:off x="932040" y="2179440"/>
                <a:ext cx="552240" cy="574920"/>
              </a:xfrm>
              <a:custGeom>
                <a:avLst/>
                <a:gdLst/>
                <a:ahLst/>
                <a:rect l="l" t="t" r="r" b="b"/>
                <a:pathLst>
                  <a:path w="464" h="480">
                    <a:moveTo>
                      <a:pt x="34" y="197"/>
                    </a:moveTo>
                    <a:cubicBezTo>
                      <a:pt x="44" y="277"/>
                      <a:pt x="38" y="297"/>
                      <a:pt x="100" y="339"/>
                    </a:cubicBezTo>
                    <a:cubicBezTo>
                      <a:pt x="103" y="372"/>
                      <a:pt x="84" y="417"/>
                      <a:pt x="110" y="437"/>
                    </a:cubicBezTo>
                    <a:cubicBezTo>
                      <a:pt x="145" y="464"/>
                      <a:pt x="198" y="440"/>
                      <a:pt x="241" y="448"/>
                    </a:cubicBezTo>
                    <a:cubicBezTo>
                      <a:pt x="265" y="453"/>
                      <a:pt x="284" y="472"/>
                      <a:pt x="307" y="480"/>
                    </a:cubicBezTo>
                    <a:cubicBezTo>
                      <a:pt x="318" y="476"/>
                      <a:pt x="331" y="476"/>
                      <a:pt x="340" y="469"/>
                    </a:cubicBezTo>
                    <a:cubicBezTo>
                      <a:pt x="396" y="425"/>
                      <a:pt x="323" y="445"/>
                      <a:pt x="372" y="382"/>
                    </a:cubicBezTo>
                    <a:cubicBezTo>
                      <a:pt x="388" y="361"/>
                      <a:pt x="438" y="339"/>
                      <a:pt x="438" y="339"/>
                    </a:cubicBezTo>
                    <a:cubicBezTo>
                      <a:pt x="445" y="317"/>
                      <a:pt x="464" y="296"/>
                      <a:pt x="460" y="273"/>
                    </a:cubicBezTo>
                    <a:cubicBezTo>
                      <a:pt x="451" y="218"/>
                      <a:pt x="453" y="149"/>
                      <a:pt x="427" y="99"/>
                    </a:cubicBezTo>
                    <a:cubicBezTo>
                      <a:pt x="421" y="87"/>
                      <a:pt x="411" y="78"/>
                      <a:pt x="405" y="66"/>
                    </a:cubicBezTo>
                    <a:cubicBezTo>
                      <a:pt x="400" y="56"/>
                      <a:pt x="401" y="42"/>
                      <a:pt x="394" y="33"/>
                    </a:cubicBezTo>
                    <a:cubicBezTo>
                      <a:pt x="379" y="14"/>
                      <a:pt x="350" y="7"/>
                      <a:pt x="329" y="0"/>
                    </a:cubicBezTo>
                    <a:cubicBezTo>
                      <a:pt x="291" y="8"/>
                      <a:pt x="269" y="5"/>
                      <a:pt x="241" y="33"/>
                    </a:cubicBezTo>
                    <a:cubicBezTo>
                      <a:pt x="232" y="42"/>
                      <a:pt x="230" y="58"/>
                      <a:pt x="220" y="66"/>
                    </a:cubicBezTo>
                    <a:cubicBezTo>
                      <a:pt x="211" y="73"/>
                      <a:pt x="197" y="72"/>
                      <a:pt x="187" y="77"/>
                    </a:cubicBezTo>
                    <a:cubicBezTo>
                      <a:pt x="175" y="83"/>
                      <a:pt x="166" y="93"/>
                      <a:pt x="154" y="99"/>
                    </a:cubicBezTo>
                    <a:cubicBezTo>
                      <a:pt x="123" y="114"/>
                      <a:pt x="56" y="131"/>
                      <a:pt x="56" y="131"/>
                    </a:cubicBezTo>
                    <a:cubicBezTo>
                      <a:pt x="51" y="138"/>
                      <a:pt x="0" y="197"/>
                      <a:pt x="34" y="19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Freeform 8"/>
              <p:cNvSpPr/>
              <p:nvPr/>
            </p:nvSpPr>
            <p:spPr>
              <a:xfrm>
                <a:off x="2089080" y="1870560"/>
                <a:ext cx="597600" cy="1027800"/>
              </a:xfrm>
              <a:custGeom>
                <a:avLst/>
                <a:gdLst/>
                <a:ahLst/>
                <a:rect l="l" t="t" r="r" b="b"/>
                <a:pathLst>
                  <a:path w="502" h="858">
                    <a:moveTo>
                      <a:pt x="44" y="171"/>
                    </a:moveTo>
                    <a:cubicBezTo>
                      <a:pt x="34" y="221"/>
                      <a:pt x="28" y="249"/>
                      <a:pt x="0" y="291"/>
                    </a:cubicBezTo>
                    <a:cubicBezTo>
                      <a:pt x="4" y="451"/>
                      <a:pt x="4" y="611"/>
                      <a:pt x="11" y="771"/>
                    </a:cubicBezTo>
                    <a:cubicBezTo>
                      <a:pt x="13" y="810"/>
                      <a:pt x="88" y="858"/>
                      <a:pt x="88" y="858"/>
                    </a:cubicBezTo>
                    <a:cubicBezTo>
                      <a:pt x="129" y="851"/>
                      <a:pt x="156" y="855"/>
                      <a:pt x="186" y="826"/>
                    </a:cubicBezTo>
                    <a:cubicBezTo>
                      <a:pt x="195" y="817"/>
                      <a:pt x="197" y="800"/>
                      <a:pt x="208" y="793"/>
                    </a:cubicBezTo>
                    <a:cubicBezTo>
                      <a:pt x="253" y="764"/>
                      <a:pt x="331" y="756"/>
                      <a:pt x="382" y="749"/>
                    </a:cubicBezTo>
                    <a:cubicBezTo>
                      <a:pt x="440" y="730"/>
                      <a:pt x="452" y="691"/>
                      <a:pt x="469" y="640"/>
                    </a:cubicBezTo>
                    <a:cubicBezTo>
                      <a:pt x="444" y="543"/>
                      <a:pt x="440" y="530"/>
                      <a:pt x="458" y="400"/>
                    </a:cubicBezTo>
                    <a:cubicBezTo>
                      <a:pt x="461" y="377"/>
                      <a:pt x="475" y="357"/>
                      <a:pt x="480" y="335"/>
                    </a:cubicBezTo>
                    <a:cubicBezTo>
                      <a:pt x="487" y="299"/>
                      <a:pt x="502" y="226"/>
                      <a:pt x="502" y="226"/>
                    </a:cubicBezTo>
                    <a:cubicBezTo>
                      <a:pt x="498" y="186"/>
                      <a:pt x="497" y="146"/>
                      <a:pt x="491" y="106"/>
                    </a:cubicBezTo>
                    <a:cubicBezTo>
                      <a:pt x="489" y="95"/>
                      <a:pt x="489" y="80"/>
                      <a:pt x="480" y="73"/>
                    </a:cubicBezTo>
                    <a:cubicBezTo>
                      <a:pt x="469" y="64"/>
                      <a:pt x="451" y="66"/>
                      <a:pt x="437" y="62"/>
                    </a:cubicBezTo>
                    <a:cubicBezTo>
                      <a:pt x="378" y="44"/>
                      <a:pt x="322" y="22"/>
                      <a:pt x="262" y="7"/>
                    </a:cubicBezTo>
                    <a:cubicBezTo>
                      <a:pt x="222" y="12"/>
                      <a:pt x="171" y="0"/>
                      <a:pt x="142" y="29"/>
                    </a:cubicBezTo>
                    <a:cubicBezTo>
                      <a:pt x="9" y="162"/>
                      <a:pt x="160" y="52"/>
                      <a:pt x="66" y="117"/>
                    </a:cubicBezTo>
                    <a:cubicBezTo>
                      <a:pt x="40" y="155"/>
                      <a:pt x="44" y="136"/>
                      <a:pt x="44" y="171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Freeform 9"/>
              <p:cNvSpPr/>
              <p:nvPr/>
            </p:nvSpPr>
            <p:spPr>
              <a:xfrm>
                <a:off x="1356840" y="1915920"/>
                <a:ext cx="727560" cy="1060200"/>
              </a:xfrm>
              <a:custGeom>
                <a:avLst/>
                <a:gdLst/>
                <a:ahLst/>
                <a:rect l="l" t="t" r="r" b="b"/>
                <a:pathLst>
                  <a:path w="611" h="885">
                    <a:moveTo>
                      <a:pt x="153" y="753"/>
                    </a:moveTo>
                    <a:cubicBezTo>
                      <a:pt x="192" y="870"/>
                      <a:pt x="128" y="844"/>
                      <a:pt x="295" y="829"/>
                    </a:cubicBezTo>
                    <a:cubicBezTo>
                      <a:pt x="386" y="837"/>
                      <a:pt x="451" y="835"/>
                      <a:pt x="524" y="884"/>
                    </a:cubicBezTo>
                    <a:cubicBezTo>
                      <a:pt x="550" y="880"/>
                      <a:pt x="578" y="885"/>
                      <a:pt x="601" y="873"/>
                    </a:cubicBezTo>
                    <a:cubicBezTo>
                      <a:pt x="611" y="868"/>
                      <a:pt x="611" y="851"/>
                      <a:pt x="611" y="840"/>
                    </a:cubicBezTo>
                    <a:cubicBezTo>
                      <a:pt x="611" y="749"/>
                      <a:pt x="610" y="658"/>
                      <a:pt x="601" y="568"/>
                    </a:cubicBezTo>
                    <a:cubicBezTo>
                      <a:pt x="599" y="545"/>
                      <a:pt x="586" y="524"/>
                      <a:pt x="579" y="502"/>
                    </a:cubicBezTo>
                    <a:cubicBezTo>
                      <a:pt x="575" y="491"/>
                      <a:pt x="568" y="469"/>
                      <a:pt x="568" y="469"/>
                    </a:cubicBezTo>
                    <a:cubicBezTo>
                      <a:pt x="564" y="433"/>
                      <a:pt x="565" y="396"/>
                      <a:pt x="557" y="360"/>
                    </a:cubicBezTo>
                    <a:cubicBezTo>
                      <a:pt x="554" y="347"/>
                      <a:pt x="537" y="341"/>
                      <a:pt x="535" y="328"/>
                    </a:cubicBezTo>
                    <a:cubicBezTo>
                      <a:pt x="514" y="211"/>
                      <a:pt x="544" y="189"/>
                      <a:pt x="491" y="109"/>
                    </a:cubicBezTo>
                    <a:cubicBezTo>
                      <a:pt x="484" y="87"/>
                      <a:pt x="489" y="57"/>
                      <a:pt x="470" y="44"/>
                    </a:cubicBezTo>
                    <a:cubicBezTo>
                      <a:pt x="448" y="29"/>
                      <a:pt x="404" y="0"/>
                      <a:pt x="404" y="0"/>
                    </a:cubicBezTo>
                    <a:cubicBezTo>
                      <a:pt x="307" y="14"/>
                      <a:pt x="351" y="3"/>
                      <a:pt x="262" y="33"/>
                    </a:cubicBezTo>
                    <a:cubicBezTo>
                      <a:pt x="251" y="37"/>
                      <a:pt x="230" y="44"/>
                      <a:pt x="230" y="44"/>
                    </a:cubicBezTo>
                    <a:cubicBezTo>
                      <a:pt x="147" y="23"/>
                      <a:pt x="125" y="17"/>
                      <a:pt x="44" y="44"/>
                    </a:cubicBezTo>
                    <a:cubicBezTo>
                      <a:pt x="0" y="175"/>
                      <a:pt x="29" y="362"/>
                      <a:pt x="110" y="480"/>
                    </a:cubicBezTo>
                    <a:cubicBezTo>
                      <a:pt x="121" y="559"/>
                      <a:pt x="132" y="628"/>
                      <a:pt x="142" y="709"/>
                    </a:cubicBezTo>
                    <a:cubicBezTo>
                      <a:pt x="154" y="802"/>
                      <a:pt x="153" y="776"/>
                      <a:pt x="153" y="753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Freeform 10"/>
              <p:cNvSpPr/>
              <p:nvPr/>
            </p:nvSpPr>
            <p:spPr>
              <a:xfrm>
                <a:off x="2786040" y="2031120"/>
                <a:ext cx="570240" cy="455040"/>
              </a:xfrm>
              <a:custGeom>
                <a:avLst/>
                <a:gdLst/>
                <a:ahLst/>
                <a:rect l="l" t="t" r="r" b="b"/>
                <a:pathLst>
                  <a:path w="479" h="380">
                    <a:moveTo>
                      <a:pt x="151" y="44"/>
                    </a:moveTo>
                    <a:cubicBezTo>
                      <a:pt x="129" y="51"/>
                      <a:pt x="108" y="59"/>
                      <a:pt x="86" y="66"/>
                    </a:cubicBezTo>
                    <a:cubicBezTo>
                      <a:pt x="75" y="70"/>
                      <a:pt x="53" y="76"/>
                      <a:pt x="53" y="76"/>
                    </a:cubicBezTo>
                    <a:cubicBezTo>
                      <a:pt x="16" y="132"/>
                      <a:pt x="0" y="155"/>
                      <a:pt x="64" y="196"/>
                    </a:cubicBezTo>
                    <a:cubicBezTo>
                      <a:pt x="68" y="207"/>
                      <a:pt x="75" y="217"/>
                      <a:pt x="75" y="229"/>
                    </a:cubicBezTo>
                    <a:cubicBezTo>
                      <a:pt x="75" y="266"/>
                      <a:pt x="42" y="321"/>
                      <a:pt x="108" y="338"/>
                    </a:cubicBezTo>
                    <a:cubicBezTo>
                      <a:pt x="140" y="346"/>
                      <a:pt x="173" y="345"/>
                      <a:pt x="206" y="349"/>
                    </a:cubicBezTo>
                    <a:cubicBezTo>
                      <a:pt x="299" y="380"/>
                      <a:pt x="248" y="374"/>
                      <a:pt x="359" y="360"/>
                    </a:cubicBezTo>
                    <a:cubicBezTo>
                      <a:pt x="416" y="341"/>
                      <a:pt x="385" y="358"/>
                      <a:pt x="435" y="284"/>
                    </a:cubicBezTo>
                    <a:cubicBezTo>
                      <a:pt x="442" y="273"/>
                      <a:pt x="453" y="264"/>
                      <a:pt x="457" y="251"/>
                    </a:cubicBezTo>
                    <a:cubicBezTo>
                      <a:pt x="464" y="229"/>
                      <a:pt x="479" y="186"/>
                      <a:pt x="479" y="186"/>
                    </a:cubicBezTo>
                    <a:cubicBezTo>
                      <a:pt x="475" y="139"/>
                      <a:pt x="474" y="91"/>
                      <a:pt x="468" y="44"/>
                    </a:cubicBezTo>
                    <a:cubicBezTo>
                      <a:pt x="467" y="32"/>
                      <a:pt x="467" y="17"/>
                      <a:pt x="457" y="11"/>
                    </a:cubicBezTo>
                    <a:cubicBezTo>
                      <a:pt x="438" y="0"/>
                      <a:pt x="413" y="4"/>
                      <a:pt x="391" y="0"/>
                    </a:cubicBezTo>
                    <a:cubicBezTo>
                      <a:pt x="322" y="6"/>
                      <a:pt x="262" y="10"/>
                      <a:pt x="195" y="22"/>
                    </a:cubicBezTo>
                    <a:cubicBezTo>
                      <a:pt x="147" y="31"/>
                      <a:pt x="151" y="19"/>
                      <a:pt x="151" y="44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Freeform 11"/>
              <p:cNvSpPr/>
              <p:nvPr/>
            </p:nvSpPr>
            <p:spPr>
              <a:xfrm>
                <a:off x="900000" y="1802160"/>
                <a:ext cx="2514600" cy="287424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Freeform 12"/>
              <p:cNvSpPr/>
              <p:nvPr/>
            </p:nvSpPr>
            <p:spPr>
              <a:xfrm>
                <a:off x="1310400" y="2128320"/>
                <a:ext cx="362880" cy="881640"/>
              </a:xfrm>
              <a:custGeom>
                <a:avLst/>
                <a:gdLst/>
                <a:ahLst/>
                <a:rect l="l" t="t" r="r" b="b"/>
                <a:pathLst>
                  <a:path w="305" h="736">
                    <a:moveTo>
                      <a:pt x="11" y="0"/>
                    </a:moveTo>
                    <a:cubicBezTo>
                      <a:pt x="31" y="30"/>
                      <a:pt x="34" y="68"/>
                      <a:pt x="54" y="98"/>
                    </a:cubicBezTo>
                    <a:cubicBezTo>
                      <a:pt x="101" y="169"/>
                      <a:pt x="115" y="258"/>
                      <a:pt x="142" y="338"/>
                    </a:cubicBezTo>
                    <a:cubicBezTo>
                      <a:pt x="132" y="457"/>
                      <a:pt x="125" y="504"/>
                      <a:pt x="76" y="600"/>
                    </a:cubicBezTo>
                    <a:cubicBezTo>
                      <a:pt x="71" y="610"/>
                      <a:pt x="70" y="622"/>
                      <a:pt x="65" y="632"/>
                    </a:cubicBezTo>
                    <a:cubicBezTo>
                      <a:pt x="52" y="655"/>
                      <a:pt x="36" y="676"/>
                      <a:pt x="22" y="698"/>
                    </a:cubicBezTo>
                    <a:cubicBezTo>
                      <a:pt x="16" y="708"/>
                      <a:pt x="0" y="729"/>
                      <a:pt x="11" y="731"/>
                    </a:cubicBezTo>
                    <a:cubicBezTo>
                      <a:pt x="33" y="736"/>
                      <a:pt x="54" y="716"/>
                      <a:pt x="76" y="709"/>
                    </a:cubicBezTo>
                    <a:cubicBezTo>
                      <a:pt x="87" y="705"/>
                      <a:pt x="99" y="704"/>
                      <a:pt x="109" y="698"/>
                    </a:cubicBezTo>
                    <a:cubicBezTo>
                      <a:pt x="131" y="683"/>
                      <a:pt x="174" y="654"/>
                      <a:pt x="174" y="654"/>
                    </a:cubicBezTo>
                    <a:cubicBezTo>
                      <a:pt x="225" y="578"/>
                      <a:pt x="203" y="611"/>
                      <a:pt x="240" y="556"/>
                    </a:cubicBezTo>
                    <a:cubicBezTo>
                      <a:pt x="247" y="545"/>
                      <a:pt x="262" y="523"/>
                      <a:pt x="262" y="523"/>
                    </a:cubicBezTo>
                    <a:cubicBezTo>
                      <a:pt x="282" y="461"/>
                      <a:pt x="289" y="401"/>
                      <a:pt x="305" y="338"/>
                    </a:cubicBezTo>
                    <a:cubicBezTo>
                      <a:pt x="284" y="234"/>
                      <a:pt x="305" y="288"/>
                      <a:pt x="283" y="316"/>
                    </a:cubicBezTo>
                    <a:cubicBezTo>
                      <a:pt x="275" y="326"/>
                      <a:pt x="262" y="331"/>
                      <a:pt x="251" y="338"/>
                    </a:cubicBezTo>
                    <a:cubicBezTo>
                      <a:pt x="240" y="334"/>
                      <a:pt x="224" y="337"/>
                      <a:pt x="218" y="327"/>
                    </a:cubicBezTo>
                    <a:cubicBezTo>
                      <a:pt x="203" y="301"/>
                      <a:pt x="205" y="268"/>
                      <a:pt x="196" y="240"/>
                    </a:cubicBezTo>
                    <a:cubicBezTo>
                      <a:pt x="170" y="162"/>
                      <a:pt x="187" y="193"/>
                      <a:pt x="152" y="142"/>
                    </a:cubicBezTo>
                    <a:cubicBezTo>
                      <a:pt x="122" y="42"/>
                      <a:pt x="91" y="42"/>
                      <a:pt x="11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Freeform 13"/>
              <p:cNvSpPr/>
              <p:nvPr/>
            </p:nvSpPr>
            <p:spPr>
              <a:xfrm>
                <a:off x="2440440" y="1853640"/>
                <a:ext cx="610560" cy="1020600"/>
              </a:xfrm>
              <a:custGeom>
                <a:avLst/>
                <a:gdLst/>
                <a:ahLst/>
                <a:rect l="l" t="t" r="r" b="b"/>
                <a:pathLst>
                  <a:path w="513" h="852">
                    <a:moveTo>
                      <a:pt x="185" y="0"/>
                    </a:moveTo>
                    <a:cubicBezTo>
                      <a:pt x="157" y="80"/>
                      <a:pt x="157" y="168"/>
                      <a:pt x="142" y="251"/>
                    </a:cubicBezTo>
                    <a:cubicBezTo>
                      <a:pt x="135" y="287"/>
                      <a:pt x="119" y="324"/>
                      <a:pt x="109" y="360"/>
                    </a:cubicBezTo>
                    <a:cubicBezTo>
                      <a:pt x="101" y="389"/>
                      <a:pt x="94" y="450"/>
                      <a:pt x="65" y="469"/>
                    </a:cubicBezTo>
                    <a:cubicBezTo>
                      <a:pt x="46" y="481"/>
                      <a:pt x="0" y="491"/>
                      <a:pt x="0" y="491"/>
                    </a:cubicBezTo>
                    <a:cubicBezTo>
                      <a:pt x="37" y="514"/>
                      <a:pt x="51" y="543"/>
                      <a:pt x="87" y="567"/>
                    </a:cubicBezTo>
                    <a:cubicBezTo>
                      <a:pt x="105" y="622"/>
                      <a:pt x="137" y="654"/>
                      <a:pt x="185" y="687"/>
                    </a:cubicBezTo>
                    <a:cubicBezTo>
                      <a:pt x="244" y="776"/>
                      <a:pt x="166" y="669"/>
                      <a:pt x="240" y="741"/>
                    </a:cubicBezTo>
                    <a:cubicBezTo>
                      <a:pt x="249" y="750"/>
                      <a:pt x="253" y="765"/>
                      <a:pt x="262" y="774"/>
                    </a:cubicBezTo>
                    <a:cubicBezTo>
                      <a:pt x="293" y="806"/>
                      <a:pt x="291" y="789"/>
                      <a:pt x="327" y="807"/>
                    </a:cubicBezTo>
                    <a:cubicBezTo>
                      <a:pt x="339" y="813"/>
                      <a:pt x="348" y="823"/>
                      <a:pt x="360" y="829"/>
                    </a:cubicBezTo>
                    <a:cubicBezTo>
                      <a:pt x="370" y="834"/>
                      <a:pt x="393" y="852"/>
                      <a:pt x="393" y="840"/>
                    </a:cubicBezTo>
                    <a:cubicBezTo>
                      <a:pt x="393" y="827"/>
                      <a:pt x="371" y="825"/>
                      <a:pt x="360" y="818"/>
                    </a:cubicBezTo>
                    <a:cubicBezTo>
                      <a:pt x="352" y="794"/>
                      <a:pt x="347" y="770"/>
                      <a:pt x="327" y="752"/>
                    </a:cubicBezTo>
                    <a:cubicBezTo>
                      <a:pt x="307" y="735"/>
                      <a:pt x="262" y="709"/>
                      <a:pt x="262" y="709"/>
                    </a:cubicBezTo>
                    <a:cubicBezTo>
                      <a:pt x="243" y="651"/>
                      <a:pt x="204" y="603"/>
                      <a:pt x="185" y="545"/>
                    </a:cubicBezTo>
                    <a:cubicBezTo>
                      <a:pt x="187" y="527"/>
                      <a:pt x="191" y="454"/>
                      <a:pt x="207" y="425"/>
                    </a:cubicBezTo>
                    <a:cubicBezTo>
                      <a:pt x="251" y="347"/>
                      <a:pt x="330" y="290"/>
                      <a:pt x="414" y="261"/>
                    </a:cubicBezTo>
                    <a:cubicBezTo>
                      <a:pt x="421" y="250"/>
                      <a:pt x="427" y="238"/>
                      <a:pt x="436" y="229"/>
                    </a:cubicBezTo>
                    <a:cubicBezTo>
                      <a:pt x="445" y="220"/>
                      <a:pt x="460" y="217"/>
                      <a:pt x="469" y="207"/>
                    </a:cubicBezTo>
                    <a:cubicBezTo>
                      <a:pt x="486" y="187"/>
                      <a:pt x="513" y="141"/>
                      <a:pt x="513" y="141"/>
                    </a:cubicBezTo>
                    <a:cubicBezTo>
                      <a:pt x="502" y="138"/>
                      <a:pt x="491" y="127"/>
                      <a:pt x="480" y="131"/>
                    </a:cubicBezTo>
                    <a:cubicBezTo>
                      <a:pt x="468" y="136"/>
                      <a:pt x="468" y="154"/>
                      <a:pt x="458" y="163"/>
                    </a:cubicBezTo>
                    <a:cubicBezTo>
                      <a:pt x="414" y="202"/>
                      <a:pt x="351" y="244"/>
                      <a:pt x="294" y="261"/>
                    </a:cubicBezTo>
                    <a:cubicBezTo>
                      <a:pt x="276" y="258"/>
                      <a:pt x="253" y="264"/>
                      <a:pt x="240" y="251"/>
                    </a:cubicBezTo>
                    <a:cubicBezTo>
                      <a:pt x="224" y="235"/>
                      <a:pt x="225" y="207"/>
                      <a:pt x="218" y="185"/>
                    </a:cubicBezTo>
                    <a:cubicBezTo>
                      <a:pt x="196" y="118"/>
                      <a:pt x="185" y="74"/>
                      <a:pt x="18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Line 14"/>
              <p:cNvSpPr/>
              <p:nvPr/>
            </p:nvSpPr>
            <p:spPr>
              <a:xfrm flipV="1">
                <a:off x="1643040" y="3008880"/>
                <a:ext cx="5688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Line 15"/>
              <p:cNvSpPr/>
              <p:nvPr/>
            </p:nvSpPr>
            <p:spPr>
              <a:xfrm flipH="1" flipV="1">
                <a:off x="2378160" y="2895480"/>
                <a:ext cx="72360" cy="34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Line 16"/>
              <p:cNvSpPr/>
              <p:nvPr/>
            </p:nvSpPr>
            <p:spPr>
              <a:xfrm>
                <a:off x="900000" y="1801080"/>
                <a:ext cx="17136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Line 17"/>
              <p:cNvSpPr/>
              <p:nvPr/>
            </p:nvSpPr>
            <p:spPr>
              <a:xfrm flipH="1">
                <a:off x="3185640" y="1628640"/>
                <a:ext cx="11412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7" name="Text Box 18"/>
            <p:cNvSpPr/>
            <p:nvPr/>
          </p:nvSpPr>
          <p:spPr>
            <a:xfrm>
              <a:off x="3719520" y="2162160"/>
              <a:ext cx="4570200" cy="38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lose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stop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ing backward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ts val="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entricl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forcing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blood to leave the heart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At the same time, the atria ar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ing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once again filling wit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blood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buClr>
                  <a:srgbClr val="00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8" name="Text Box 19"/>
          <p:cNvSpPr/>
          <p:nvPr/>
        </p:nvSpPr>
        <p:spPr>
          <a:xfrm>
            <a:off x="1835280" y="5877000"/>
            <a:ext cx="533376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ycle then repeats itself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20:22:05Z</dcterms:created>
  <dc:creator>S.MORRIS</dc:creator>
  <dc:description/>
  <dc:language>en-US</dc:language>
  <cp:lastModifiedBy>Guest Account</cp:lastModifiedBy>
  <dcterms:modified xsi:type="dcterms:W3CDTF">2016-04-25T04:33:29Z</dcterms:modified>
  <cp:revision>39</cp:revision>
  <dc:subject/>
  <dc:title>Circulatory system</dc:title>
</cp:coreProperties>
</file>