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9EA-8BFB-4E7E-B9E3-A9CF393277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6E8-5EF4-44C8-BA64-7FBF4D918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5AAC-DC78-4B9E-B2F6-933060936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8E5C-09A9-4B42-8829-3C130DDC6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749B-B946-4713-AF10-103F5A31C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72F-5293-4767-9E2A-5BEBF5B3A4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9080-71AB-40F9-A522-B0BA675A9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3111-5AD2-4BF4-A45A-261B5C708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4779-C862-40D1-9E09-D5E5E91E75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F4FB-5F8F-41BE-9C1A-0080EE6F6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2D7A-5C29-4EF1-8329-02CFAE44B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476C-CE5B-4EC9-AEBF-009AE19F1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0604-563A-46EA-83F4-4973AA89F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94E7-BD7D-4C8F-BB0E-8FE49F217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D661-7F34-4860-9882-90609D172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5FF2-335E-43D5-AF81-C7ED20F60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91DC-1A97-4A3C-BCB0-1D703A1CC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3E54-E00A-4F44-A63D-D871CA982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F7A6-FDC3-44F4-AE48-F84A316367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E4E4-8728-4EC0-A947-AB6A531A9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E958-60D2-49B5-95A1-B8847A617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A315-1860-4E3A-8CE1-8EA521540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9EFE-52FB-46F7-933C-0E7745548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39E1-CD9A-4809-8808-6A1946239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9FA-3037-491F-B97D-A5D16A09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565-83B8-4025-83CC-A4C4D579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8D2-7375-4148-9674-7421C5BC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68B-5614-4415-972B-0117D94F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0AE-9047-433E-8840-5772F74F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85B-4BA5-46DC-BC6A-0B82D171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A70-65A6-469D-958D-D64AC869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33B-8718-45E9-B0C2-99F24A0D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64F-F694-4709-8ADE-71242F6E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C29-2552-440E-8551-2E6F857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DDF-E56A-463F-82D6-63E6F188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973-A838-43C5-B759-C447085E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3028-8320-45BC-8506-EE4AB73905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</a:t>
            </a:r>
            <a:r>
              <a:rPr b="1" lang="ja-JP" sz="36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eat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780000" y="5734080"/>
            <a:ext cx="129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1908000" y="3068640"/>
            <a:ext cx="12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68360" y="3716280"/>
            <a:ext cx="151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4859280" y="4437000"/>
            <a:ext cx="10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4140360" y="5084640"/>
            <a:ext cx="107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2987640" y="2421000"/>
            <a:ext cx="14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7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5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6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8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04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05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2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1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1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1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3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Guest Account</cp:lastModifiedBy>
  <dcterms:modified xsi:type="dcterms:W3CDTF">2016-04-25T04:33:29Z</dcterms:modified>
  <cp:revision>39</cp:revision>
  <dc:subject/>
  <dc:title>Circulatory system</dc:title>
</cp:coreProperties>
</file>