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AF33-88EA-42BA-A07C-7E6607DBE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FD4-741F-4977-8640-2F2AB65E0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9E9-4FB5-437C-AC02-B728CDD37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1BF-869B-45AB-99C2-B0524AD02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9A4D-39E6-4BB0-A330-96FEEAFE7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A68A-D073-46AD-B6EC-9F3F22BB2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0C33-1A1B-456F-9A6A-42B3B434F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BBCC-7FF3-4A45-AC7C-F9E845773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8B97-9019-4E8C-9A2F-03402FE77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ADF9-5EFF-4BC9-A308-FAF35B934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183-1E52-4F88-BF3B-B459E6C0D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70B8-2354-40E2-9BBE-61EC249B2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8C94-6CD2-46D1-956E-DDC58B584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C83-F589-4488-961F-EF46BB2B8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01E-A9C8-452E-B072-5346EF691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3AEE-5526-4AB8-98CD-E1D0848C6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C8E-5A91-4F60-8FE2-69DC89947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88A-887C-49CE-840A-632E76D3C4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DA1-4C0F-44DD-91D0-71AFEBF19D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038D-387A-45A4-856A-F53B4F1BE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532-EBC8-4FAA-8E43-66F60B485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1F8-6C46-4BEC-895C-3C91AD7BB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B94-C9A6-46F8-827E-7D54D7D3D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E9A5-34E0-4759-BC63-C51B141E1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15A-F36E-4219-B9E6-89CD3946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DEB-8AD6-49C6-B502-4BD77D6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202-0DF4-4922-9832-24035BCE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F60-1016-4136-8045-DBFDA96B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C19-DE8D-4B93-9DF2-D0C2F5B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45D-9B18-40B3-A00F-FCD02DCC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461-F80C-41A9-86B2-B6E24A12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F01-9F9F-456F-914D-8E172066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FED-9AFD-4139-89E9-274B014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316-E8CB-4C6E-8C96-075A39B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BAA-E3CA-403C-B9ED-AA4D32A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96C-63ED-486E-B8D9-48041A0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81FF-AF00-431C-A4DA-59E8F6970A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</a:t>
            </a:r>
            <a:r>
              <a:rPr b="1" lang="ja-JP" sz="36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eat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780000" y="573408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908000" y="3068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68360" y="371628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4437000"/>
            <a:ext cx="10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4140360" y="508464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2987640" y="2421000"/>
            <a:ext cx="14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5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6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8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04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05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1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3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Guest Account</cp:lastModifiedBy>
  <dcterms:modified xsi:type="dcterms:W3CDTF">2016-04-25T04:33:29Z</dcterms:modified>
  <cp:revision>39</cp:revision>
  <dc:subject/>
  <dc:title>Circulatory system</dc:title>
</cp:coreProperties>
</file>