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7D71-02F9-4DC9-A0CD-3A0A63E72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BD36-3692-4CC2-9615-52A082BC56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C787-7F8B-4C63-A440-AE82CE636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F913-7DD1-4023-A453-A315E69231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0613-46F7-4F70-AF6F-202200681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4704-DDD4-4471-BC5F-E7DAF9367C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296E-55CC-4718-9B04-807952DC1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405F-6334-4766-B5AF-04E94866AC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C9B9-4E76-4543-81B2-165A98463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6354-609D-4C6C-B092-E026C2C4B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52B6-5157-4B8F-B0B7-8F9BEB6C16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80B3-0CCF-4652-9F4E-0E8EFB096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6671-A711-4675-A3D0-72B7C0D325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9807-6A15-42EB-8C1B-EE6844823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8AEC-7062-4AB8-8A33-7543777B0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C4D2-FE06-4AA8-BEB2-90882BF96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3CAD-396B-4C88-89F8-B3EC7E7538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B385-A779-4148-97A9-B7C57FDB82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771C-4688-433D-99F5-1BE74FB622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C83B-E731-4C48-B1C7-863A265853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E368-46E2-4439-A78C-B1859C61C0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89A7-1112-4D6F-8054-B221154C5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19FF-CEB2-4422-BA7A-9A3F8524D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07A7-2D3B-4889-8C14-20E6BD9A83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1E0-E4B8-4D2B-9341-1B3EE22E6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2B0-A173-4AB4-B3AA-E3773361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73D-114D-4715-9134-2C412BE3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2658-249D-401B-8079-54EE8604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F33-4D71-4E6D-A85B-BEE21C97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67DB-7032-47B8-B71D-3F0D4F23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209-8389-4CAA-A958-DDB668BA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69E-B626-4BB2-A915-041B1BAE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C74-EEBD-47CC-B4D0-4322E28E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56A-D6D6-47C8-B112-C5EF7BF0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A85-86F6-41E6-BB80-14CD66C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7B7-A835-489E-A534-895BE63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FB91-CE93-4A6A-8F72-3FD00A5BC8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</a:t>
            </a:r>
            <a:r>
              <a:rPr b="1" lang="ja-JP" sz="36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eat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780000" y="5734080"/>
            <a:ext cx="129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908000" y="3068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68360" y="3716280"/>
            <a:ext cx="151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4437000"/>
            <a:ext cx="10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4140360" y="508464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2987640" y="2421000"/>
            <a:ext cx="14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7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5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6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8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04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05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2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1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3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Guest Account</cp:lastModifiedBy>
  <dcterms:modified xsi:type="dcterms:W3CDTF">2016-04-25T04:33:29Z</dcterms:modified>
  <cp:revision>39</cp:revision>
  <dc:subject/>
  <dc:title>Circulatory system</dc:title>
</cp:coreProperties>
</file>